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</p:sldMasterIdLst>
  <p:notesMasterIdLst>
    <p:notesMasterId r:id="rId50"/>
  </p:notesMasterIdLst>
  <p:sldIdLst>
    <p:sldId id="256" r:id="rId51"/>
    <p:sldId id="257" r:id="rId52"/>
    <p:sldId id="258" r:id="rId53"/>
    <p:sldId id="259" r:id="rId54"/>
    <p:sldId id="260" r:id="rId55"/>
    <p:sldId id="261" r:id="rId56"/>
    <p:sldId id="262" r:id="rId57"/>
    <p:sldId id="263" r:id="rId58"/>
    <p:sldId id="264" r:id="rId59"/>
    <p:sldId id="265" r:id="rId60"/>
    <p:sldId id="266" r:id="rId61"/>
    <p:sldId id="267" r:id="rId62"/>
    <p:sldId id="268" r:id="rId63"/>
    <p:sldId id="269" r:id="rId64"/>
    <p:sldId id="270" r:id="rId65"/>
    <p:sldId id="271" r:id="rId66"/>
    <p:sldId id="272" r:id="rId67"/>
    <p:sldId id="273" r:id="rId68"/>
    <p:sldId id="274" r:id="rId69"/>
    <p:sldId id="275" r:id="rId70"/>
    <p:sldId id="276" r:id="rId71"/>
    <p:sldId id="277" r:id="rId72"/>
    <p:sldId id="278" r:id="rId73"/>
    <p:sldId id="279" r:id="rId74"/>
    <p:sldId id="280" r:id="rId75"/>
    <p:sldId id="281" r:id="rId76"/>
    <p:sldId id="282" r:id="rId77"/>
    <p:sldId id="283" r:id="rId78"/>
    <p:sldId id="284" r:id="rId79"/>
    <p:sldId id="285" r:id="rId80"/>
    <p:sldId id="286" r:id="rId81"/>
    <p:sldId id="287" r:id="rId82"/>
    <p:sldId id="288" r:id="rId83"/>
    <p:sldId id="289" r:id="rId84"/>
    <p:sldId id="290" r:id="rId85"/>
    <p:sldId id="291" r:id="rId86"/>
    <p:sldId id="292" r:id="rId87"/>
    <p:sldId id="293" r:id="rId88"/>
    <p:sldId id="294" r:id="rId89"/>
    <p:sldId id="295" r:id="rId90"/>
    <p:sldId id="296" r:id="rId91"/>
    <p:sldId id="297" r:id="rId92"/>
    <p:sldId id="298" r:id="rId93"/>
    <p:sldId id="299" r:id="rId94"/>
    <p:sldId id="300" r:id="rId95"/>
    <p:sldId id="301" r:id="rId96"/>
    <p:sldId id="302" r:id="rId97"/>
    <p:sldId id="303" r:id="rId98"/>
    <p:sldId id="304" r:id="rId99"/>
    <p:sldId id="305" r:id="rId100"/>
    <p:sldId id="306" r:id="rId101"/>
    <p:sldId id="307" r:id="rId102"/>
    <p:sldId id="308" r:id="rId103"/>
    <p:sldId id="309" r:id="rId104"/>
    <p:sldId id="310" r:id="rId105"/>
    <p:sldId id="311" r:id="rId106"/>
    <p:sldId id="312" r:id="rId107"/>
    <p:sldId id="313" r:id="rId108"/>
    <p:sldId id="314" r:id="rId109"/>
    <p:sldId id="315" r:id="rId1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notesMaster" Target="notesMasters/notesMaster1.xml"/><Relationship Id="rId51" Type="http://schemas.openxmlformats.org/officeDocument/2006/relationships/slide" Target="slides/slide1.xml"/><Relationship Id="rId52" Type="http://schemas.openxmlformats.org/officeDocument/2006/relationships/slide" Target="slides/slide2.xml"/><Relationship Id="rId53" Type="http://schemas.openxmlformats.org/officeDocument/2006/relationships/slide" Target="slides/slide3.xml"/><Relationship Id="rId54" Type="http://schemas.openxmlformats.org/officeDocument/2006/relationships/slide" Target="slides/slide4.xml"/><Relationship Id="rId55" Type="http://schemas.openxmlformats.org/officeDocument/2006/relationships/slide" Target="slides/slide5.xml"/><Relationship Id="rId56" Type="http://schemas.openxmlformats.org/officeDocument/2006/relationships/slide" Target="slides/slide6.xml"/><Relationship Id="rId57" Type="http://schemas.openxmlformats.org/officeDocument/2006/relationships/slide" Target="slides/slide7.xml"/><Relationship Id="rId58" Type="http://schemas.openxmlformats.org/officeDocument/2006/relationships/slide" Target="slides/slide8.xml"/><Relationship Id="rId59" Type="http://schemas.openxmlformats.org/officeDocument/2006/relationships/slide" Target="slides/slide9.xml"/><Relationship Id="rId60" Type="http://schemas.openxmlformats.org/officeDocument/2006/relationships/slide" Target="slides/slide10.xml"/><Relationship Id="rId61" Type="http://schemas.openxmlformats.org/officeDocument/2006/relationships/slide" Target="slides/slide11.xml"/><Relationship Id="rId62" Type="http://schemas.openxmlformats.org/officeDocument/2006/relationships/slide" Target="slides/slide12.xml"/><Relationship Id="rId63" Type="http://schemas.openxmlformats.org/officeDocument/2006/relationships/slide" Target="slides/slide13.xml"/><Relationship Id="rId64" Type="http://schemas.openxmlformats.org/officeDocument/2006/relationships/slide" Target="slides/slide14.xml"/><Relationship Id="rId65" Type="http://schemas.openxmlformats.org/officeDocument/2006/relationships/slide" Target="slides/slide15.xml"/><Relationship Id="rId66" Type="http://schemas.openxmlformats.org/officeDocument/2006/relationships/slide" Target="slides/slide16.xml"/><Relationship Id="rId67" Type="http://schemas.openxmlformats.org/officeDocument/2006/relationships/slide" Target="slides/slide17.xml"/><Relationship Id="rId68" Type="http://schemas.openxmlformats.org/officeDocument/2006/relationships/slide" Target="slides/slide18.xml"/><Relationship Id="rId69" Type="http://schemas.openxmlformats.org/officeDocument/2006/relationships/slide" Target="slides/slide19.xml"/><Relationship Id="rId70" Type="http://schemas.openxmlformats.org/officeDocument/2006/relationships/slide" Target="slides/slide20.xml"/><Relationship Id="rId71" Type="http://schemas.openxmlformats.org/officeDocument/2006/relationships/slide" Target="slides/slide21.xml"/><Relationship Id="rId72" Type="http://schemas.openxmlformats.org/officeDocument/2006/relationships/slide" Target="slides/slide22.xml"/><Relationship Id="rId73" Type="http://schemas.openxmlformats.org/officeDocument/2006/relationships/slide" Target="slides/slide23.xml"/><Relationship Id="rId74" Type="http://schemas.openxmlformats.org/officeDocument/2006/relationships/slide" Target="slides/slide24.xml"/><Relationship Id="rId75" Type="http://schemas.openxmlformats.org/officeDocument/2006/relationships/slide" Target="slides/slide25.xml"/><Relationship Id="rId76" Type="http://schemas.openxmlformats.org/officeDocument/2006/relationships/slide" Target="slides/slide26.xml"/><Relationship Id="rId77" Type="http://schemas.openxmlformats.org/officeDocument/2006/relationships/slide" Target="slides/slide27.xml"/><Relationship Id="rId78" Type="http://schemas.openxmlformats.org/officeDocument/2006/relationships/slide" Target="slides/slide28.xml"/><Relationship Id="rId79" Type="http://schemas.openxmlformats.org/officeDocument/2006/relationships/slide" Target="slides/slide29.xml"/><Relationship Id="rId80" Type="http://schemas.openxmlformats.org/officeDocument/2006/relationships/slide" Target="slides/slide30.xml"/><Relationship Id="rId81" Type="http://schemas.openxmlformats.org/officeDocument/2006/relationships/slide" Target="slides/slide31.xml"/><Relationship Id="rId82" Type="http://schemas.openxmlformats.org/officeDocument/2006/relationships/slide" Target="slides/slide32.xml"/><Relationship Id="rId83" Type="http://schemas.openxmlformats.org/officeDocument/2006/relationships/slide" Target="slides/slide33.xml"/><Relationship Id="rId84" Type="http://schemas.openxmlformats.org/officeDocument/2006/relationships/slide" Target="slides/slide34.xml"/><Relationship Id="rId85" Type="http://schemas.openxmlformats.org/officeDocument/2006/relationships/slide" Target="slides/slide35.xml"/><Relationship Id="rId86" Type="http://schemas.openxmlformats.org/officeDocument/2006/relationships/slide" Target="slides/slide36.xml"/><Relationship Id="rId87" Type="http://schemas.openxmlformats.org/officeDocument/2006/relationships/slide" Target="slides/slide37.xml"/><Relationship Id="rId88" Type="http://schemas.openxmlformats.org/officeDocument/2006/relationships/slide" Target="slides/slide38.xml"/><Relationship Id="rId89" Type="http://schemas.openxmlformats.org/officeDocument/2006/relationships/slide" Target="slides/slide39.xml"/><Relationship Id="rId90" Type="http://schemas.openxmlformats.org/officeDocument/2006/relationships/slide" Target="slides/slide40.xml"/><Relationship Id="rId91" Type="http://schemas.openxmlformats.org/officeDocument/2006/relationships/slide" Target="slides/slide41.xml"/><Relationship Id="rId92" Type="http://schemas.openxmlformats.org/officeDocument/2006/relationships/slide" Target="slides/slide42.xml"/><Relationship Id="rId93" Type="http://schemas.openxmlformats.org/officeDocument/2006/relationships/slide" Target="slides/slide43.xml"/><Relationship Id="rId94" Type="http://schemas.openxmlformats.org/officeDocument/2006/relationships/slide" Target="slides/slide44.xml"/><Relationship Id="rId95" Type="http://schemas.openxmlformats.org/officeDocument/2006/relationships/slide" Target="slides/slide45.xml"/><Relationship Id="rId96" Type="http://schemas.openxmlformats.org/officeDocument/2006/relationships/slide" Target="slides/slide46.xml"/><Relationship Id="rId97" Type="http://schemas.openxmlformats.org/officeDocument/2006/relationships/slide" Target="slides/slide47.xml"/><Relationship Id="rId98" Type="http://schemas.openxmlformats.org/officeDocument/2006/relationships/slide" Target="slides/slide48.xml"/><Relationship Id="rId99" Type="http://schemas.openxmlformats.org/officeDocument/2006/relationships/slide" Target="slides/slide49.xml"/><Relationship Id="rId100" Type="http://schemas.openxmlformats.org/officeDocument/2006/relationships/slide" Target="slides/slide50.xml"/><Relationship Id="rId101" Type="http://schemas.openxmlformats.org/officeDocument/2006/relationships/slide" Target="slides/slide51.xml"/><Relationship Id="rId102" Type="http://schemas.openxmlformats.org/officeDocument/2006/relationships/slide" Target="slides/slide52.xml"/><Relationship Id="rId103" Type="http://schemas.openxmlformats.org/officeDocument/2006/relationships/slide" Target="slides/slide53.xml"/><Relationship Id="rId104" Type="http://schemas.openxmlformats.org/officeDocument/2006/relationships/slide" Target="slides/slide54.xml"/><Relationship Id="rId105" Type="http://schemas.openxmlformats.org/officeDocument/2006/relationships/slide" Target="slides/slide55.xml"/><Relationship Id="rId106" Type="http://schemas.openxmlformats.org/officeDocument/2006/relationships/slide" Target="slides/slide56.xml"/><Relationship Id="rId107" Type="http://schemas.openxmlformats.org/officeDocument/2006/relationships/slide" Target="slides/slide57.xml"/><Relationship Id="rId108" Type="http://schemas.openxmlformats.org/officeDocument/2006/relationships/slide" Target="slides/slide58.xml"/><Relationship Id="rId109" Type="http://schemas.openxmlformats.org/officeDocument/2006/relationships/slide" Target="slides/slide59.xml"/><Relationship Id="rId110" Type="http://schemas.openxmlformats.org/officeDocument/2006/relationships/slide" Target="slides/slide60.xml"/><Relationship Id="rId1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1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2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3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7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Text Box 1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0" name="Text Box 12"/>
          <p:cNvSpPr/>
          <p:nvPr/>
        </p:nvSpPr>
        <p:spPr>
          <a:xfrm>
            <a:off x="3884760" y="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56160" cy="34131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Text Box 1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 type="sldNum" idx="49"/>
          </p:nvPr>
        </p:nvSpPr>
        <p:spPr>
          <a:xfrm>
            <a:off x="3884760" y="8685000"/>
            <a:ext cx="2955600" cy="4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5FDA7-A5D7-4862-A5EE-91123253C2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B3429-0C89-448B-9FA1-E6412B9AEC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4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AB620-F71D-403C-BA64-B311511B2F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6A031-ED7F-4F1A-B226-A09D19B774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77DFB-D49B-4B68-ABC4-91781BFD64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C6C5C-35DC-4100-9894-364991C3A1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A81E5-5DA7-466E-8BFA-EEBBEC01AD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7D50A-D28D-49B6-9755-66C98541D5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D760E-F547-478A-9993-2085C29B19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BB0BF-5FD4-4E02-99AC-99AF113B9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62D03-D9FC-41DF-B5AD-59B6B07F3D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C0DF0-735E-4A79-97E6-381C4A1B0A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0EE67-720A-4474-889B-A4741BACE8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EA9AB-86EE-4090-B161-73D53DB2EB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C8EB1-01F1-4511-BD78-7A7D418CB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B7E37-6861-4282-B626-C59D4AB9A0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0FC39-E838-4396-948C-F2DE78B228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1185E-0D5D-4645-88D4-8A07716615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28CB1-C334-4155-8545-5923F0F39B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375E7-48D1-4F26-9519-2C67B73D42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D3EDB-6217-48C4-B3DE-C9A1B56805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1EA88-FF6E-401D-95FB-9ACC13E941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77EC4-140C-4828-A1A9-CAEFCC3AEC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9BC8F-47B9-4036-9262-6772FAE1D3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BCC54C-3F68-4E8E-A9AF-ABD8FB73DB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34434-2E2E-4BAB-934F-9AC442DF75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8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BECB59-C0BB-45C7-AF30-B076D4115B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C6851-FF28-4602-89D8-0128111181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450CE-FC39-4522-B962-CEFC80F891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533B8-D4F2-4EE5-8484-0773D4A7C3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7B530-EAC4-4E81-8A50-AB9A37267B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B88A5-1962-4821-B1C4-2B1AB39821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58078-9962-4301-A2B2-C714697EC6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A613A-6C2C-4E1A-9CF3-60082A4A1B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27D5C3-505A-4EF2-ACB5-CC676EA6CC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D6329-F35E-4063-A329-276E1BB35E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8E47C5-ED9D-41CC-A8D5-CED3500EA0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8E48A-12B9-45B5-B0BD-00EB9DC97A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24F9B-6A47-4222-BF70-18669F2D77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96DC7-F3E8-47DA-9482-317788D87B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6AB54-95D1-431F-AFC6-C3A934C875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76470-7F97-4590-AB74-C4CA5FB063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E8F0F-422A-444C-9931-5FB1031B55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A6E02-E96B-4655-97D0-74F3520CEA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7D7C9-8553-4898-8330-459598831C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167E3-2323-4D64-A136-28D43FFC08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D55EF-E988-4634-A204-9DDEE1F11F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8BF34-86A4-4D74-912D-182842FFF2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03910-7DED-47F6-99B8-14B363698F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8528A-2BBF-4F3C-9C61-E0EB81036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9F4DF-90A9-40BE-A47C-2A33566529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58E29-D9E0-4F00-9C99-0381F9594E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496E3-8E54-4BFC-A1BF-1ED40B0464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D09F1-8C93-4F1B-8074-A855F4BBF4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5CFF8-0F2B-40C3-BA7A-647E84750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66778-BB4B-4559-8468-0597172ACF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2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A4DC7-F270-4B90-9DBC-7D875F0DF5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853E6-64EC-4D36-8DD6-06EDA3774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A7F4E0-4AFA-4332-8871-61DFA85CC2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6B1B7-A93C-449F-B05B-6E7B33B135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02AC3-E431-4015-86A1-F45308072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0" name="Rectangle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47673-58FD-4436-BCF0-9D33AF2653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2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489D1-4C51-4A87-862B-DE223A42C9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FB788-24F5-4234-999D-D499FDDDB5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6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C4C42-CE73-44F6-B877-67EBC8E17D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8ED6C-BB73-4AA0-BD64-B9C2A359F2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0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E1FB6-CD6F-49B9-A4AA-FACB73C199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BC3EC-1CC0-4040-A658-4183F9CE1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F87C1F-E908-4465-8262-551C19B299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8DFF7-37BC-4A2B-AC7D-B151486720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B0443-54C6-4405-A7FB-B06C144FC2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35CD4-F6C2-4ECC-9B6A-3CFCDF674B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4BD6D-9A5B-4FD7-A754-6C7AA8305E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B0483-4D6B-4BCC-99DE-07F5362D49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07CCC-1519-47EC-8FB8-ED0E829DCE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0EFD4-4E94-46B0-8F16-7A8D295569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CDADB-4B44-4F10-BC74-8974C4097B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81BED9-0E08-4096-A52A-0163625068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82E66-61EC-47CB-8159-75B91AE974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3B236-FE9E-4EB2-9FCF-DB1B4F2228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BAB2E-E81B-43EC-92D9-C021F2A33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651ED-9C88-497F-A465-78C795959F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6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E9B0D-94FA-42EE-B42D-FA822C90E9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BBF3A-57D8-45C0-8939-411FA4168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1A52C-B543-4359-AFF0-FD1E3EC207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81382-21C6-4837-BF06-C4853F03B7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90963-678C-4C9E-B820-8F66FB4FA1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FD5CE-C5B8-4DD9-B89F-4BF2AFBD6E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A36E2-A31F-459A-9C0C-C90702B6AB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AD5AC-1A58-4B6D-963F-3D93EE05F1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B5EEF-0AC6-4929-95C8-4ED3D32F55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A5CE8-E0C0-46AF-82E5-26543DF7FD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A8F24D-8326-46D6-9EBF-84BE5AB780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141335-94A6-4635-B98C-54D0437774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BDFBE-9316-486D-9248-50D818C417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A5521-2614-4D1D-A03E-94315FF12A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FF599-962F-4692-ABE3-6490FE71C5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4DB1C-EEDA-4B4C-A470-557E7021FE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874D6-6BE0-470C-810E-DA4DEA9510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022DC-0196-40F0-8005-76ABF4A07F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BBB90-73E8-474B-9868-52B172AE58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3DE13F-F129-4A36-9EE8-351BBE0D7C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DFB1B-A476-4CDD-89C2-37C2673C6D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73204-D348-49EC-97DC-E9F2C2E465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B6F4D-DF12-439F-8816-379BD59642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D7EEE-F69D-4A34-9512-72A3E36DFF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F34F2-31EB-4E22-97EA-F4AA55DDF9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E90AA-3F58-43F3-B0C9-B7B195A1AD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F0CB4-2622-4BC1-A492-572B4D0529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B3512-AA8D-487A-9B3D-6B1F704299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D8489-F216-4E41-B7BE-5615E48643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E8EC4-D56E-4E4B-A9C8-EEAD32352B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A2F01-ADDD-44FA-95C5-44404F9CCF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1CB4E-492A-4718-B3C4-BF05AE3CEF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E0FD7-7559-417B-A3E7-A6ABD8DF3C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0A19D-24FE-432C-B13A-9249933415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5096D-95F0-4693-A334-1A6A0CF0D8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AA951-3E4C-47A4-AC61-A4CFC6950E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C0581-991F-4E68-BB6F-318B9D6525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73FD8-5827-43F3-91C8-C0C0266B0D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Ходање; собни бицикл; вежбе са теговима; Таи-чи; хидроКТ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ЦИЉ: 20-30 мин, 2-3 пута/недељ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3F4C7-1F93-4AAE-88A2-C99A4B02E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6D4FC-984A-4DC7-B42E-A2EC93BD76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921F7-A4C8-408B-82E8-A7D877C06B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538E6-E501-4158-9F90-AA7D984A4D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0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7DAC2-2E78-499B-B3EC-CF45F3CB45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932F8-610E-422B-927C-E27C8BF4CC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82DC1-F985-49DC-A92F-631B52FC80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FA11AF-D2F4-4C57-AA65-448C3CB760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A8D58-93FC-46BD-A1B5-E176944C8E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A484D-A05D-49C2-BBE8-7ABAA55846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20517-7847-40ED-BA35-97032D56BC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FC3EF-3E17-499D-A33D-D497BB7B73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CF5B8-45B4-4AAC-B0F7-1AB66DF14DC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350B8-5A91-4DD3-A10C-A87EE76EBC1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497B5-4EE6-40D2-AEC5-1AA7208F9D5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ACBEB-0AA1-470F-8E61-D0E38ACB9D8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C4C09-B05C-4486-99DE-AA6245E838A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A5995-66AF-4DCC-BDB0-2C38B569C51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96479-940A-4B5F-973F-5E024B79010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81E30-FAEF-4749-94DE-F3524C07454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60BD3-A7BB-4F31-8DE6-FD45B8CA018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52C4D-2547-4911-A730-BB662EFBA73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BA5804-130A-45D6-995E-B8818C06B7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7421D-580D-4F38-A203-185EBDD88B8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8C2964-B583-431E-8C5A-816D3021076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F1CC17-0280-44F4-A510-E9CA2E2BC58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4C32BD-D0DA-4781-87DE-6F6942EF982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8F839C-C317-4592-9598-386A43FBBF2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FC0D7C-2872-4808-80A7-C9E70189A26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1A76EF-6D4C-453B-87ED-B18B3606FA8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1C453B-8103-435D-B090-158D3D2855B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AD5EEF-956F-48C9-B92F-879404471F1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43C951-C4AB-442D-A6F7-90576608B00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A700E6-DDC4-4FD7-B9B8-1423B6178D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B5476-3AD4-46F2-8574-563428C4491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EA6841-D605-4171-8D17-50A57D39B41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9AC9B9-E4BD-499C-A977-ADDCC7468C6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D37EC5-61AE-4AD3-A277-A1C31BE78A2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976321-6BCD-446E-A030-1CCEF47AE17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B400AF-5244-45A0-9D7B-D4AC7243F93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CB71E3-B142-41F7-97E7-06611411D6C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2A343E-E1FA-46B2-AD9E-CF837ACF65E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8331A9-180E-4411-8BC1-F0CCBEF8482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F25719-F383-44BF-83C7-42D3386C2CE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5778C4-5152-4F3D-B5BE-73B272BAC2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BAE3F-5DB5-43A8-84BE-D41C593933C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615D0B-0329-41C4-B05E-44F4E6D7D9D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6B2D94-8398-4BF8-BD5D-A6B416DC0EB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AE42BB-E6D4-4219-A1F1-65D6041BC3C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7B94E-DE22-472A-BBCF-A0DC266A41D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3D52C-68B7-431B-9964-88F87CCDE21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07D36-DFCB-4293-A339-D4161F7FCCD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0E35A-02C0-450E-A1DB-A4C03750657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34A19-AE63-4E1D-B843-864EAD2F132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F0196-1069-46EB-BDAB-DF7335C9356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06AA5-8B01-4623-BAA2-EBB1C5A736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E6771-1C62-4880-8CC2-FE4C828C66A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DF27E-F8A4-45C4-9E07-E70D8BCEC6D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8EA8A-441A-4F07-BADC-5949286AEF6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860AA-5827-48E0-8304-4E4A7046828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ED755-FE0B-4836-8842-60A560F1682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09679-6430-479C-A198-9F534A08028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CE60BF-F1C2-4F51-A95A-8D943644EC7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356EEE-48D2-42DE-8987-243DE324027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D9300D-AF74-432A-9E7E-2D970DE5FAE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EFB97E-728E-450D-8F55-28EF9AE6DC6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600814-EC13-4477-88F3-312FC46F66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D0BBF-6342-4AD3-BF48-B4EEE700117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6B96AB-7743-419C-A38F-DB6C8C88933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F0B0CA-D3A6-4654-8544-B04A5AE6FBB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79AE7C-80EE-4F5B-A393-BABA55B3E89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03CEBE-B49C-42FB-81AC-DC85261C201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6F21AF-F94B-400E-AAC6-7275AEF6834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1D0773-B5CE-4981-81C6-A8CCD71D2DF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F4C800-6996-4EF9-B2CE-06C11B7D85B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F029D7-B707-4E4A-9FF4-6D1C48E7ADF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6411BC-8C7E-4F80-ADFF-BB899AC8AA6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FC85D4-84E4-43DF-A9F7-B535A88071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8320C-997F-4FEC-B05C-67AFB6EE76C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BBF86D-672E-4A04-84B2-CAE4438EACE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E0BBC9-6408-472A-8688-3DE8D633E9E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0A8220-428C-4628-9265-28853CAED27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AC502A-B534-47BE-B095-CAC76ACB3BA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8B0306-3CCB-4517-AF5D-CE1F3FBFD64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2A4777-07B9-4427-A302-240173248B3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886468-DEE7-43E6-A1EA-14CE86CC1F9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AA09B2-1544-493C-A1A2-F91666B008E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57F882-9C59-489D-83E6-BAD14687235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EA7E0-E989-42AA-A35B-620D417314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804A7-E676-4298-A7D2-A66234B8DD2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8D372-5A0F-40A1-9BEE-371C6E8FA18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95FD4-D2FC-445D-B79A-A7863DF6CE1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73954-0C1B-4A39-8761-0945671112F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43668-01F9-4871-9EB6-51677376A8E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BCB10-5BA5-4B79-BD27-2D5025EFCAC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5CDC2-B811-4E93-9E19-7BD54B16531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58EDA-15CB-45C3-ACC2-50193F2BC47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9A95C-B660-4129-86FC-811E6307DF7A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6E1C5-1EAA-4D51-ACF9-CE93C8D77F0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29DA5-AB67-45E1-B98D-EA8E34F035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C5F70-CC72-49BB-AFAD-E505D76DC2A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F3685-FCF9-4A05-A12A-42E12108358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F791BC-E51A-409F-8657-480B7470E274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1BDC7B-F041-46EB-B3E9-DD52ED6099FC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5D27C3-F26C-41E6-9851-061C2410722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5C681F-D55C-45C6-B32C-054D756D5C8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A12074-A533-4AF2-BB1F-7BA66C9B2EA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B8BE04-13A1-4871-A2B2-AD81029934E7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1AB6CA-828A-4881-9FEA-07B1D5F7A174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79B262-020E-438D-BACD-949575E7FE1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7D5F5C-BACE-4456-9122-559CB8DB5F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94ACE-5F84-42AC-B7C5-58E7A5F77D8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65F727-901E-44FD-A0BA-A855384A6E0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5C3F6B-19C3-4453-8F7C-CEDEA5A6AFB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F53D48-D449-4093-A7A9-B76E80B2290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F34255-3217-4F88-A4D0-F528AEDCAC06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513D0A-50E4-4531-ACB9-1195D30F775F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C5EBE5-FBC5-4D00-903B-E8837B0A7CC0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9FEB98-86C5-4C4A-8DF9-6428D884622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D8E450-21F4-4961-8FA4-4A8E6115851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AA984B-DF33-4CCE-B764-CAFCC68C1C1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1E43CB-D9FC-4B85-ACBC-02C2EED23A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C5A03-EF00-46E8-881C-20DEB45C7C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7ABDD-53D5-46A4-8C3F-7CC596B26DA5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F71939-484A-4790-81A3-05FDAF254FF1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F0D698-E771-41F2-97D6-CE56E13518C0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C33B7F-A7D1-431B-AA95-FF81C39DF5A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B08C0C-5600-435D-9613-246966AD9927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70CDB7-2FAD-4F48-BE85-D0C619891976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33CA2-AA64-4B9B-A1F8-47D07631AFD5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2FE71-ACA7-4704-9070-07D21987DFF7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48AC5-DE6B-4DD5-99E2-1343ECB3B94D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45ED6-9C32-4504-8AE5-A146DDAF516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1669E-2F44-4974-8AC9-0D0C6C38B2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C9E8E-30AB-4F20-8128-7326E9BBE7AC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114D7-A105-4687-92F3-930787B11B96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F538E-7553-4209-A530-827E89F3D1DE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C9396-0998-48B3-9CCE-3ABD04268A0E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090CF-4E53-4540-ADF2-B2602CB2341B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A9298-B123-4F94-A091-C628B3EDC6A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D6534-AE40-457F-8232-7E9CBB2CBF3D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32686-C10A-4EB1-BBE2-3C2BD14B33C5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38B6A0-E325-4866-AA26-4B8E20EDF96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FF7239-CDC1-4EAD-8817-94E5B1CB15A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A2C680-F375-4109-9E79-B42F3EFA7D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EB4A4-F205-465C-95B0-146F8C0E0073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24CB50-DF88-41CD-9E58-6C32818D188D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85C7E5-4D59-43E8-8CD3-A2407D8C66AA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A3D253-49C8-46EE-BC5F-890FCE3205FC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01E68A-1D6C-4C7B-AA51-38252AD61C00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8648EC-1CC2-4ED5-B027-03252793AC6A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F8F4A4-2EF2-4702-BA1B-EB533C4A606F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18F91B-E199-4FE6-9739-7C300417829C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8DAABA-DA83-4A4B-B414-E30E4C813FE6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FDCBAA-40AF-40B0-8ACF-F194DF64D3F1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B468A7-BA4E-442F-867A-0EAC9A0BD7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1E64D-DB6C-4BCF-B27B-16AA570A3B20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A80729-4F8F-4FCB-9F76-0F8DEA88D9C7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946EEA-355C-453F-99AF-FFF64775404C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50BCFF-B087-4701-B939-57026B5C3585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15834B-C1E6-4815-B564-472520A84AE2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B3AA8D-59C0-4522-B979-472228EE86A7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01DD77-842A-429E-8718-7AD15C9A748E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D68695-805F-4429-8E1E-69B530A438E6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5CA180-F357-4871-864B-DE6571CDFD79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7BDECB-F1B2-4C88-A127-A834D69704FB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E2E951-F2F5-4D50-893E-B635FCF846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5BCF8-D465-4495-B5B6-F1AD061ADEC5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3C209C-53F0-45FA-9534-5B9EB1D6CD81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E8B2D-5FC4-49D6-86B2-C6CC8B4207A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C7320-C02B-4C6C-99FD-FAF4BF35E835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6DA3A-F6A4-4460-B7CD-02D95A5BFE81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BEDAA-3F1B-4DB8-A0C2-33BBD162AF96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7D0DF-04C7-480B-B767-BE31769506AD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ED036-1876-46FE-99F5-C39ABD64DF29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48195-E1EF-4C64-8C84-28AF5A042202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4E236-1B9C-4B00-9FDD-311F3A0D59DF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2DBE5-752C-4A05-8D9E-5B00BE78FB9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711F-E336-4EB5-830D-2466F8587A96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D1CCB-55B2-4039-8F8C-092B98D7606C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7B618-2110-4E62-AB29-C87E96E51B3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5D051-7071-4E4E-8FC2-910AC16F45C4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83FB49-0C83-43C8-9E59-4AFCA4473EA0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4AA0B4-6542-4F0D-9832-911728DC141F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F3B32F-49DE-40C3-91CD-4B6B21442E2B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A0FC2D-1E42-4940-987E-8D79202D68D5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9F6B17-0D63-4CA8-8355-6710F06A203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DB292F-22FC-48DD-BBAA-DCF716F9B5E5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8BDF68-B3ED-43B4-9C1B-55D16B96953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3923-7872-46FA-BC69-61918216BB71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87D342-3E21-4BAB-93DC-754AE7B4D0B2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824DE0-6141-4ECC-8E5D-CA9E1721D8F3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ECEFBC-4538-462F-9EA1-BBFDDAC010B2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C09C6D-1A3B-46F7-A0B4-FA8A89B72080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A8EB67-B4E9-42EA-B4C3-711B8645AC9A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0BC31A-218D-4500-B17B-D773136CFA94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A5287C-5598-475A-987F-0B75E461F64C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744C3C-411E-43B1-8F28-B445AC00F26E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A2129D-3EDA-4313-8968-F2E42B53E09A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ABAF3C-F75A-43AF-880E-E236318A4FF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4185-BEFB-41C8-816C-178ECDFFFA26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BEBB94-BAFD-4853-8364-3BFA7AFEE6D3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47D125-057F-4EE6-A9E4-E56248778FE6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6138C5-A094-411A-89CB-3D380802341B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583F07-FEE7-4A45-A600-E74A39F8B0F9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61F13E-716C-4507-A8F3-7EF1EC776984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80EE8B-FB0D-4F02-BF15-B6B52CC0351A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D88BD9-5237-4F99-8506-F3B2BBE050B0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021F6-5C5E-41F8-A432-BFEF7DE20BB2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0AF59-141C-4D9A-8398-29849797823F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38E4C-C657-435C-9D0B-BCB832AEB4B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AB47-C655-45CC-9DED-AD9337EEE10B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AE87B-679B-4733-8282-DE670521E2D8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2DDC5-4ED7-4879-94DE-D902C8DCD64B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4273B-3D79-427C-B625-458F8B8A1DA0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A877C-0E86-4A4D-85B1-D380370AA38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1F0C9-7BB7-4D5B-A0A9-50FCE4FE2E60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0BCF7-9704-4B85-9DFE-C25C07B01F79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F08D3-4B9E-4234-B1F6-3EB4FC30BF10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76E27-3944-416D-BA5B-D71E0955F8AD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2A272-3A62-4957-9D26-263D0EDE2DC3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CFCC84-1C85-4207-AA41-6A417B65004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5EA1-946F-44BF-B0BA-9FFC09B114CE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DF620C-835E-455D-90C4-A434788D2196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FE698D-5A85-41F4-B9C3-5291E215BB28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2D7960-9F14-4360-8DC3-A39441D88D5F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AC8764-0CC1-4172-A854-C72E85A3279D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766773-F451-40BC-B6D7-E8EB2EC3394C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5DAD1E-4E87-495F-BB8E-301231845777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FD8632-6BDA-45BF-854B-D8C7624E7798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2B979A-059D-4077-9D2B-F0E4A7A051DA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851DE0-6ACD-44BA-8DFD-64863C2778D1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80062B-09AF-4246-AFE6-56825A878F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27BAC-5FF9-42FD-B202-1FB2177BA44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DE80-3EAD-4A2B-B32C-A0BD778279D1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2FC384-1A85-406F-8761-71775F5DBC2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D9B58D-1A64-4BF4-81F8-8F10D05875E9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7ABC38-7B66-45A3-A48D-7B617D3E3508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514411-FE90-4355-8E9E-5788056EC775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3EBE21-225D-467A-A120-E22863B441DB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D94686-BBD7-4CDB-8D25-63B7161B0381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C3B632-10EF-440E-8876-58542A5F1379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6BEE92-EFFF-4D62-A1C3-803B7110A492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DDCE20-DF89-49B7-87E3-4790C1165ECC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C20D93-5934-42BF-BC19-51541D8CE32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9850-7DA2-4DB9-9A51-4F1DF01104DD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1A2D7D-A1AD-4127-A186-B143812567E6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02200F-29DE-4C54-A9AD-59BB1C3B2361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1F6D19-3674-4C82-A790-D85CFC043C6D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9601C-622D-4777-8D26-D53D404A3AFC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B6EE4-8A13-4EA3-B480-CDF8C4198FC4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E074F-298A-4C7F-98C4-7340DC1FE57E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3CD41F-F12F-445A-91F9-02CE0CFBBF2D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8AEE19-0D76-4BD5-B735-51D7572FC3B1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9C9AE-68F1-472A-9E32-A6923536B89C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CFE04-2629-41B5-89B2-11D47B01903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59AF-9FFD-4651-B530-428ABD21F99B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F1BDF-A4B5-4432-AC55-6FE210F98FF2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E4FF1-AE9C-4D1A-979C-31C22FBA4D3B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C6CA0-109B-456C-9DA6-2C152619C8D1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2446C-7D5C-4904-8897-151E345C62FA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A695E-9F08-492F-955F-BD22DDB26204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AEE5D5-4206-4B3C-BEFF-6CFD94AD0B05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6E71CB-F54B-4482-8F92-1BE7B9328A2C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073EDE-3C61-4F15-AC1C-06C6844D03CA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A0F7EE-DD28-4553-A163-D8A6B5DF7486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842BA0-ACAC-4855-BA76-CC0BB4D31F0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E817-14EE-4C01-A809-BF3E653B96AA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688E75-52A3-4D22-8AF3-F0E672D5E017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8C31BE-E379-49DA-8F93-C550DB32EA0E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3FCA1D-9565-4CA3-B272-2465CE24AA89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998C76-3C7F-4AE0-83C0-F4974AE0106F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AC30BE-4EC5-410D-8E44-81D6B6EBDAB8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A5C999-A38D-4A96-8B8A-CE6849489874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9DF7EB-029E-4FF0-A9A9-D0DE968E976B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6F5245-98B4-495D-801A-2D9211254554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2B4779-3237-453B-A8EA-C679307A9F07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A7FC4B-2169-4711-9A13-143B30A777E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ED07-5BA2-40A4-A4DB-0DB76FB55E34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E1FB90-1ACA-40FC-9FC9-F675528C67C4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82FC2B-64D0-4136-91A2-E762E7CF6D19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5C7CA7-E0A6-4819-9E2A-F17F25EDD33F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49C53F-B7A8-485B-9F38-C38E390E261A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AAEC19-B477-4BA6-94B2-CD1007D1F525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DAD33B-2E32-47B3-A53F-BF274770A8CA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053774-52ED-4990-9E7D-1AB3CD45DB80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979B7E-B362-4EBC-B7FB-79F9EDE3738D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BC667B-5017-4AF5-9CC9-DFA8FB00A9D4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4772A-6F79-447D-B704-0DF37DCDD3C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6356-7144-4D2F-BAF8-BCC62644082A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8246F-F2AA-4550-ADBB-EDC0177BF711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A0103-F9A3-489A-84CE-C891AE5046D8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F0FA70-857E-42B1-9348-AC1D7311E8E2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A891B-9664-4CAC-8101-AA132229CDEA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CC85D4-34CE-4E8D-BE89-606948B2B256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13FE8F-3F00-4D1F-9C77-BEFD9CB494AC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1339D-4545-437E-9FC3-C1206A1F16EB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C7DEF6-D59C-4CC7-84C7-9B005019A01B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697D5-63C8-4677-8B2C-E63A7175A091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65E34-2733-496A-BB30-3154E3D9D9B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F0E2-23DD-45D5-8B98-7C534532CFB8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76208-4418-4F23-9F33-0FAF42BA271E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FFA6FF6-DA6D-42B7-8EAB-408FD27C708B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22186EE-457E-4156-B4F0-6FBED73AFE6A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CE272FB-06A3-47B9-A569-67A57D21D385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194D48C-B9A9-416F-A55A-752939F53170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46DD2C0-2A6B-4705-8F62-C420FD4910D0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2C7F434-731E-4E46-A0E8-93CA19DAFE79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6734CA2-5A60-4E0A-B0AD-ED239D635B6C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F584AF7-3199-4646-950A-2EFD45DE5639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72B7511-0701-4371-ADE6-ADCF0CEC235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BCDDD-1072-40EF-94A5-8C288EC46D1A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7D6FDD2-8383-4203-B208-7FFA210912CA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5D02C31-0E30-4B0A-9B81-28D7C88D6681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2A49966-ECD7-4D3C-B07E-B49E3AAFC5F8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B5A81E-19B1-4F24-8E88-73A3D36580F3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BF8EF6-79C5-4EB5-8225-CD2736EEBAC7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5291510-A4C4-4854-BB1A-25F404F071CA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CE987A-D591-4B38-9B15-90CF4DB2243F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2533A4-C901-4F72-84FD-662D56DC327C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8CF415-AC82-4221-881A-57708B59E477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DA7557-A2A2-4F90-BC50-AE97A0433AB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8DFF6-FDF5-4818-9AF7-579364FD21BE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2E49E6-07CC-4BDB-8A20-C94B390A49F9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8E3BCE-BD32-4C63-8DE9-FDFFC16AE542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F64A017-D082-41FD-9CE5-D0F368612277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B05709-F42D-4589-92E3-2207E399AE2F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575250-98D3-4416-81CB-2342911E4F2C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98155-4317-4EC8-9CFA-A403512EFEBD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D9758-FDBD-434D-A052-3D879D26C91D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DE38B-BC8C-4589-833E-BBCA7E31CA9F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BF8EF-E446-4A2D-BD08-A09980D06BF4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9BEBE-A40F-4CD1-895F-72B44B72636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491BC-CB8E-4B5B-9D47-24AB66D1BAE5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934DE-9948-4141-8429-EB8ABD8D7A2C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B4E34-A841-47CE-BB23-D2D16B865F19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EE30D-5426-4547-854D-9461E6CE3997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4827E-7ED2-4F59-B208-78D9AF200FF6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1BB98-4F60-46F3-B8F9-790737A3C57B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AF2C0-F760-4991-A782-45068C13C463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977B9-5383-47A7-AFBC-C88B31825F66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88B339-C59C-4367-A604-3F17AAB4931B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429B53-9E1D-4009-9CAC-AB45EF12FC65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AED095-892C-4492-9F81-AB3305C62F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CDDA3-9BC1-458C-88CD-420BAD9C4E3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61FE0B-E287-43F0-A29A-8178E001EAA8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DF6F35-1A70-4C4F-9E54-1A0CAA8FDF5A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BB944A-24B5-43A2-A85E-5F3A8ADBA8C8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4FD2F0-7A04-4E1C-ACA5-B5A22A115104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1A3311-F30C-404E-A73A-D984260E5D98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F46CFB-C190-42EE-86BE-B593864CC5B5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F3EB8D-E7AF-4872-83B0-51B7878787B5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F3AE2B-74DA-4F34-840C-28AACCE67963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405340-8687-4CDC-ADA3-3F0EC10AFAD0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5C781F-3FEE-4B45-A24F-7A100354E0C7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8DF769-843C-4D46-A009-A0B68F21846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CFF48-EBBD-41E9-8CB2-C9D340CD560D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7EEFEE1-D45F-44E2-8D50-BEAE731DBD1B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6E475A7-1901-4D69-B3B6-757F01C30383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F1E92E5-CD2C-4C7F-A77F-241A4002A05F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806331D-7495-404F-B680-28E35807505C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805BDBF-DB76-4DDD-B4A4-C7EDEE4D6983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565E5AF-C952-434C-B7AB-AC61BD0A47AE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AE8A8E4-8D37-4EB0-8EB4-D6EE62FE6127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41CADC2-5465-49F0-A895-A73F0BCF774A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400A580-0603-4CF5-816E-5020D15BEC51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0698F35-6924-4229-B0D6-315D536FB77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F9CC8-34F6-4E0B-9212-5B5214B20A5B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99C4447-CB93-4688-B23E-F052B7F0F922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656746-E53B-404F-9B14-4876025876DE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BC5508-978A-4652-BBDF-F3D6A9C45542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9BC6C6-6184-4C42-9EC6-FFD1EE9BC73E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DD0F7-4837-4778-BD2C-E149DC6624FF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5688A0-4174-4859-8FFC-FB3CE8AE17CC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B36C7-F07F-4261-A0E2-B19499E987C2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44572B-CCE8-4EA7-901E-64823621699E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A22910-0774-43F2-8CC6-EBBDD26B2F60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7027B7-526C-4F4A-BEDB-8413DF5B8D0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F7809-F6F3-4198-8F2D-2FDE1C572904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37CCA7-111A-47CD-BE94-D1D7B002E89A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BE2665-AC58-489A-923B-99EFB59339E9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E20DF2-0D2E-4C91-A510-5720656F909A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1DF505B-5B07-4E93-AC20-68602B28559E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A38729C-E1D3-49AF-8A70-66B7961D483D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3734D05-0A27-4935-AEB9-43991C0E8826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CE1554D-6B61-4FE7-A4EB-CA15197F8CF4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A400FB4-2CBC-40C8-9EB5-873255F5EC5A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F6B446E-209D-445F-AA52-08B23BAFA3B5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037FE8E-1074-416E-A90F-4C920EB55E1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0CE6D7-CD4E-4A9B-B263-62B23800F602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DC116A9-4D19-4B36-8261-C010B109D32A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29B81BD-6123-41CD-9883-F1A6B556F5A2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CEC89A6-C753-45BE-975B-93B6B04AC361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DE2B3EE-CE5A-4CCC-AC16-25EE84EDD1DE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300F22E-16A5-4B8F-A3DC-78626F8D54C0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A97B9F7-4E6E-4FAD-905D-7F338214486C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F0604FD-8C16-49FE-90D2-44894D8F635F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B8DC34D-7EED-49B8-8CA4-577D000B999B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A97B01-5F2E-4F68-9991-DDEEFE2D1131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CE96BB-4E39-49CD-819B-851C51AAC63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91DB51-FE69-484F-9D01-68B60BF440B7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765CE5-F957-4C46-BC2D-2452478835B1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8BDA0D-716D-414A-9645-9F6F64B963AB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1A684B-32CB-4975-8714-B7E576C5315E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BD03999-AB5B-457B-8D75-818F681BAEB9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F9FEF8-133A-4947-8EAC-3AE070AA4687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2FA0E4-51A6-4861-92F8-8D6DAE8166A6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EBCC8C-B629-4508-A89E-914AA416B550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3A0595-8F3B-44DE-8FC0-C892D69E9375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1441DD-8BD5-4E5B-9CBA-0847D9930243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359983-7B7F-4944-AA03-DB4C73BB91E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951D4-3AC9-4FC1-B8B7-BE783BA41875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2CDCB9-ABA5-4BA2-B717-D3F574185864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B25D06-4E65-422F-9E50-F5B97365A787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81EA35-5F00-43D5-96D5-52C27856DA65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F68C78-7DAC-4803-8EFE-107618A22277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F1473E-2C9F-410D-A783-2C7E6774E60B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EB8CEA-BE60-47B3-A7DB-CD8E779F03CD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65562D-2A1C-499B-B843-D9AA4ECDFEC1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81E501-B1CC-4C5B-A40B-A3A7A9DFD107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B7FF42-856A-41EF-9B21-18ABB6F2233F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F2D6F17-BBB6-4390-ABBE-BB1625C2F50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456A5-8A2D-48C8-9E0C-3F7E88E5AA72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DCBB81F-906F-4DBB-833D-3F4F8ABAC413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82563E1-B9AF-4808-AC53-F9C446B56958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3B148ED-1854-466D-8660-46CE3B0D55FC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10C5DCA-98A7-40E2-8A38-56A4C8FA23A3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C953B03-BA99-43F0-8BA6-7B7F252328DB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E61F184-1D7E-4716-A5F0-63627351DD95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677EB00-5F1F-41DD-9068-ADD9D9EADEB4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B7C9A0F-BCD9-44C2-8B16-B514A8331B42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A18340A-FAEB-40D3-BE17-13014D7F73AE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6E473B0-A627-4C00-8825-5A8F16D3AC7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4D094-B39C-4196-9081-52AAC83D2119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04E1E87-16B1-4FAC-9C40-4F75CF1F4443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EFCCDC2-E545-4756-ABCB-D6591302CC98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CBEC208-E0FE-4A76-8B57-CA32B2FA43E7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824EC68-4309-41B3-A572-C1BAF9792611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021F484-A925-40CE-B0CF-3A290495CABF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F4482C3-A6FF-4562-9D56-3869C91C55A2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CD0D9A9-19C2-41CE-A1A8-877782D5C344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C5FDA18-C20B-4A79-BCE2-932E6002D5BA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DECA2A6-C233-43E8-957A-67882A21EDD9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A40C7FE-6667-4F2D-91D0-81366681D2E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F6729-0780-4DE1-B44B-49C2A7B8847E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83AC9FE-3572-4BDD-8F33-98BED3FE91B7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A4A00C4-DC34-43D0-AFE2-2425DBA0979B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32409E7-0472-4A7C-904E-9786491387DB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B7DC11-4140-478A-8A7A-FE9311F738A5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944829-F92B-44D8-A641-0AEDF85A8625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D67A3A-3AB5-4072-8E52-E6CE4BA54301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96BADC-15C2-458D-AD66-A703A93DAE44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8989A4-5F7C-46C4-8B6B-054B74E81457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52618B-CC6C-4D5F-AD66-CAB31D40F7F6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9AE940-13AC-4790-B19C-B4EA7C7211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BED6C-5D6E-4FC3-8C93-85E548B47D6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661BD-8979-4B19-94CB-248F11F9FC67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9ECBD9-4AA3-42FB-9C36-6AC9C621CCDF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70FF5A-9BF3-4D51-ACA2-835DFE05B514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9AE8AE-9DBC-4C3C-997F-4DF67DFC7CCE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E92E3A-5DEE-4969-8187-B6F33A80264E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00D928-12BA-4D7B-95F7-0F623FD0322A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B5AD0A3-B8D6-48D8-A718-96CDB1DE1EC5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CA99218-B7B0-410E-97CB-5BAD696EEA9D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A9ABD29-D0C6-4AEE-906C-7934402F454D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620B580-37D7-4153-A66E-0BEE222F46BD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A072936-5AC0-47F3-8A69-4A30A151F4E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AA0DE-AAA6-4922-B0A4-93B50D803F5D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6B3EA04-FF3A-40C1-AA89-044D71C92BB2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0C91F67-679B-4F31-8CA7-94F5F4A81D51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F875E8A-D53D-4D90-A858-1FF048D6C3E5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146C7CF-8D1D-43F4-BD5F-C7241625A11B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1454E3D-0B7C-47EC-9651-7F9C0FE71F31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021AE09-DCDF-4B69-B723-ED65E710566A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6BF6482-0995-4F79-9743-93A270355CCE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283D283-B004-43E1-954C-ED63B3946223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5D578C4-40E5-460C-838C-9F39034B489C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E6920BE-E443-4047-9470-970849BC2C7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0F227-3A71-4B5E-99D3-29B5EF8EAA4E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F88DE41-159E-4E6C-86C5-9D837B1A0CA9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36BC90F-082A-4DE5-816B-EDF718E2632F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F222382-7646-4AFE-AD56-34FF20CC064F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0025801-36FC-41E0-BD62-920227DC72C3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485FC90-4159-47C3-A18F-A1346AE9A637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F484145-03A4-40B8-95DE-DBF4767BD5AD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6555B8C-DD38-4191-BC86-5409D828C161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49E6A16-5EB6-42AD-9BD0-2BBBF97C005F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E2CB37F-6B67-4ECF-9DDB-88C7F612E8E4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AF93C6-37FD-4008-8FBC-3C339F263E5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AD585-5549-4038-A3D1-5C6E924ECC93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538D60-3E7D-45A4-AC82-D01133921DAB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0B62B4-A6F7-4D68-A371-1182E9EEB132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5FFF12-F041-4719-8ABB-AA1CCF4384EE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37E811-BD1C-4E11-9489-C1E2E7A64F14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2BCBCA-D139-4D2A-B12B-C80EDBBC138A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01DC6B-2AB7-498B-99F5-72CED9B0C58D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D7E92C-4D76-423C-A9EC-67AB987F708E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C10D52-5193-483E-98E9-54C136441984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3D76C9-D392-4AB7-A232-11A78FBC95D5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DCE42E-5E86-4246-B65D-3ED984FDC54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E6D98-BAD0-4FF0-AC4B-D9950BA655E2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0FE947-CA29-4A19-8F8D-160967EE4384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B3CEF33-15BA-4692-9AC0-D3E7146C6E92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8B03561-A714-425D-809D-33344BFE352D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E15D6E7-45E9-464A-ACD7-D1A5F5D74592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72C3FB6-C1A4-4D44-8AB9-E4EF8804C8A9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C93D67B-CE74-42DB-8423-C32B9C126CB2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944BC04-DDDA-43A0-9796-B614EBAE25F7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ED0FE55-08A6-4E1B-8AE9-5B7A887519F2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22E95AC-5AF9-48B5-AAB8-CCDF991AED00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FA3D4EC-1987-4CE7-B335-62A7372369F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AC4F2-6B18-48ED-B3DB-E9D7F194B634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6B87FB0-1D63-4B9C-B252-ED5C29ABE6F5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188AB23-F0C5-4F9E-B7A7-A614CB65CBAC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CD285FD-685B-4ED8-9F39-8D4C1581FCBF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D4BF3D8-C15C-430A-A8AE-27C8A1F5D8C5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D7E886E-6333-467D-8FDF-1BAAF6E6942E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A14D990-EC90-4FD8-B596-40A94F553B5C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8A2F05D-F565-4C3F-BFC7-A8F2A88BA717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72A3A44-F7A5-4B43-8FBE-782B893E67B6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6D94E24-E550-4DB9-A7D9-C6EB7FB4258B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D3113A2-2AC5-4FEC-8953-ED30A40FC2E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FE303-7C07-4148-9F36-3712A459EA44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B63557D-FDC6-4F35-A21A-EBE99C8C0227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8AA1F44-F115-4625-BEB0-39263183EEFB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1644F88-36B7-4BE8-84D0-80F39FBE0D3A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7B875A9-72D9-4428-8541-1E59B464259F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F778644-D649-49FA-A8A4-3494C638E83A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D30A6A-882F-4BCC-8A2B-3F1541AD944C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D16810-F151-4041-97A7-3443D39FA822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3F8D8B-992F-4883-B7C7-FEEB3F321861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4D1DF8-3499-4304-91D0-64F6F603BFD6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7A2DAF-804E-43A0-912D-BC405E1921A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C0A6C-A6F9-4AF8-B015-410EA44B4F56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639C25-B4A2-46A1-BD7D-CAAD77ECC349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763150-B2FD-4504-94A1-BA30F9895A14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C0DCAC-EE7D-49D2-A6CB-90EDD05706B0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28A546-5FE4-424F-A4ED-79C5A34EB3EB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9B6221-6880-4D96-A880-7547DD02EBE3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831442-2C32-42D7-9A18-EADB1295DF37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0337EC-948E-45CC-924F-F35A0250ED0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7AE25-63BA-446D-ABAB-E187F7003DF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17D48-2C11-4CEF-AE21-4AF90A50EE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72C33-F56C-4441-890D-4565648F6C1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6F771-8BA8-4975-BAD5-BDDE0E503F8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0641-F660-46D7-8841-8509A03E019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B7C7-62FA-473C-BBF1-574EC73B933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84F1-DA0F-4620-8B39-F6F832B87CC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1096-D231-4850-9F51-88A07D6EC68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5E57-41F7-4DDA-A651-A0EFE7789E3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B487-9C90-43AD-B1A0-BA5C561EAF2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97E0-44BA-4DA7-BDBD-3B96EEE5DC2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3E97-5238-425E-BC79-A802E75540E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13A7-545A-4FD2-A86D-44569DB7E4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6E91C-1E24-4E5E-8C80-B63F38424E4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2B87-CDEA-46C1-AB47-B17B1AD2624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0C3C-4885-4CD9-930D-78778187EA3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20A1-DBEE-4FC4-BA16-5B199D31454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309822-99B5-4933-AAF6-8D77FA070FC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2B52F4-7807-40AB-8537-3F0E90CC11A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F7FA0B-A737-4B0F-A5AD-9D254881E13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3AC0CC-C090-4D23-BC19-8F4B22C073D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AA3A1D-C778-4DD8-8AB3-E848615F796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B99071-A005-4178-9247-7FF5AA4D11F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3359BF-397E-499E-9E9C-BE5CA2CE53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F59D6-56D5-40F0-A73C-99E07CE2071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A4529E-43EA-4AAC-8D2E-1523A2D481A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FC8514-DEEE-4237-90C9-A68A89B722E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F76E17-70D9-436B-A9FD-E9D7C90B67D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338797-AEE7-45BC-A8B5-A661526E660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0A5002-EDE8-40A1-A365-B63D2991DBC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46D128-BC57-49D9-BB6E-3F99B43539E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A68F28-CB73-4AB4-8B06-FA2FB19EB0E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ED06CB-907C-4050-BF21-2EEC4DAC8F6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88FADE-D5AC-4B4D-9FD3-C4BC38EDB31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24C933-DFE5-4E31-B788-FFCA3C839E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DA8ED-13D4-4640-977B-489E2F53EE1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26639A-E687-4F5E-86D6-317EEC248B3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336F61-3A6F-4F0D-A002-4221B1F9D8B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5CDC0F-FE73-4B68-A21B-5DF9C4CEDBB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9DCB1D-3996-47F9-B6B4-F71327FD91B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B7B7F5-727A-406F-A167-EAA6A0FA669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97D4E4-F512-4C2D-8096-0D7AEEB38D6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0979E8-1A01-4F25-A9B6-6B32F9A527F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EF922-6AEB-4F54-8235-120C56E7158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6ABCB-18DC-424E-BDED-32D6F0A725D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764AC-9F8A-426A-9D1B-35A5C9FB48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182A1-642E-4B84-A164-CF99D063E6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138D3-5A50-4E9E-8E5C-AEA66427A3D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5B506-8459-4B9E-9AB4-D50FCD57C31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AE793-5A68-4CC1-8992-8878CD35B73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C630F-1774-49EF-A779-A6E551E49B5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294DB-CB0C-4C76-AF68-238291B1457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7D744-30E7-48A3-974E-07DD01A6F55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Num" idx="16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9511D-BADD-4C21-8616-9163B94696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sldNum" idx="17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E0C02-3593-4B03-9AF1-2F2F86EFE0F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C6599-707A-455E-AEF0-CE57A106E9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19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BB5C3-E2EA-491F-9E21-65EB11BA5F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492B7-446C-4D1D-8D47-543F92E034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sldNum" idx="20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1D770-E110-46DD-B94D-829B646579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3C571-4327-424F-B53F-5245818F2A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sldNum" idx="22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E511C-68F5-4FE9-AA8F-E40AE946FB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sldNum" idx="23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0AAD07-0866-4725-914E-4FDC782A50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FF099-BE25-4B6F-96D7-73FE378F42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 type="sldNum" idx="25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AEB2C-01F7-4001-AD8F-84C9A2AFEF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sldNum" idx="26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218F5-D302-462A-BFE7-B1768CAE04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D3383-295E-4255-A2B9-25A159264F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sldNum" idx="28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32ACD-C4FD-40D8-BA42-401F7599C9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sldNum" idx="29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B9D1B-EB5B-4965-8157-AD093743E6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41F7F-D938-43C5-A074-7347EF1D27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DBC89-7960-4E86-84A3-98C347F03A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sldNum" idx="31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6FB45-1A18-48BE-AD76-AE3AAB94D1C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sldNum" idx="32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17331-10DE-40A6-928E-2C54504BB1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6C1A9-68F7-49A5-B4CD-7EF070B5A8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sldNum" idx="34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9082F-F666-4698-90A1-C57C03FE21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sldNum" idx="35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B0375-D0E9-4240-B523-BCD2D8542D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6A738-FB73-4E18-AE54-FCE4B0036B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sldNum" idx="37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E1ABC-C437-4000-BB34-3F19565E1E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3937D-4E37-447E-A844-7DF0B3EFC7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7B4C9-D29C-43FB-AE04-80A4BD8E43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FDB626-49CD-4A00-A4EA-56C178BB81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 type="sldNum" idx="40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6D2F8-C11A-4641-A450-FFDF0AE567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2D1C9-252F-4783-BDCF-BEFBFBF0BA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984E0-B917-4818-9ED6-4B8201ED3D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 type="sldNum" idx="43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D742A-54AD-4955-A1AD-83429B0C8E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 type="sldNum" idx="44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FA09B-B823-436F-9F12-573E659CDA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34272-A8FD-4D8A-9D47-CD8C304D0A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 type="sldNum" idx="46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F4134-F815-488D-BFB0-4590E0D529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87F6F-5744-4886-9163-8F8A239DA7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B80E78-D6DB-4F6C-818A-AC1AACDD81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D173E-3238-4139-9063-D0ED4C27F78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DFD3C-1D75-4E24-90A0-61962F04C3F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8F758-D426-462D-A833-56CE0D50F2E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84943-47B2-464E-997F-8461A7A1332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7268C-16A4-4F7E-BC0F-4FCF0E4F929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2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3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3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85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85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85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85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5" name="Picture 1" descr=""/>
          <p:cNvPicPr/>
          <p:nvPr/>
        </p:nvPicPr>
        <p:blipFill>
          <a:blip r:embed="rId1"/>
          <a:stretch/>
        </p:blipFill>
        <p:spPr>
          <a:xfrm>
            <a:off x="406440" y="420840"/>
            <a:ext cx="8280360" cy="6129360"/>
          </a:xfrm>
          <a:prstGeom prst="rect">
            <a:avLst/>
          </a:prstGeom>
          <a:ln w="0">
            <a:noFill/>
          </a:ln>
        </p:spPr>
      </p:pic>
      <p:sp>
        <p:nvSpPr>
          <p:cNvPr id="1986" name="Text Box 2"/>
          <p:cNvSpPr/>
          <p:nvPr/>
        </p:nvSpPr>
        <p:spPr>
          <a:xfrm>
            <a:off x="682560" y="38577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Cardiac rehabilit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oc. Dr. Igor Sima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Rectangle 3"/>
          <p:cNvSpPr/>
          <p:nvPr/>
        </p:nvSpPr>
        <p:spPr>
          <a:xfrm>
            <a:off x="611280" y="1268280"/>
            <a:ext cx="79153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ACADEMIC STUDIES OF MEDIC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MEDICINE AND REHABILI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F815C-6841-46E4-8A78-2967BB846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General recommendations for physical train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Text Box 2"/>
          <p:cNvSpPr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Activity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150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 min weekly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 optimally 3-4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h week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Start with </a:t>
            </a:r>
            <a:r>
              <a:rPr b="1" lang="sr-CS" sz="2400" spc="-1" strike="noStrike" u="sng">
                <a:solidFill>
                  <a:srgbClr val="ff0000"/>
                </a:solidFill>
                <a:uFillTx/>
                <a:latin typeface="Calibri"/>
              </a:rPr>
              <a:t>50%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of the maximum physical load or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max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and increase gradually 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to 7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Energy consumption from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1000-2000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Kcal/week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Adequate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training dose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1320" indent="-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ncrease of </a:t>
            </a:r>
            <a:r>
              <a:rPr b="1" lang="sr-CS" sz="22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breathing rate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not over than 6-9/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mi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41320" indent="-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ncrease of </a:t>
            </a:r>
            <a:r>
              <a:rPr b="1" lang="sr-CS" sz="22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сardiac </a:t>
            </a:r>
            <a:r>
              <a:rPr b="1" lang="el-GR" sz="22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γ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not over than 10-12/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mi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41320" indent="-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ncrease of </a:t>
            </a:r>
            <a:r>
              <a:rPr b="1" lang="sr-CS" sz="22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systolic blood pressure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not over than 40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mmH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11D4F4-480F-4A2C-984F-C36FE4F30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Text Box 1"/>
          <p:cNvSpPr/>
          <p:nvPr/>
        </p:nvSpPr>
        <p:spPr>
          <a:xfrm>
            <a:off x="250920" y="125280"/>
            <a:ext cx="8178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habilitation of patients withacute myocardial infar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Text Box 2"/>
          <p:cNvSpPr/>
          <p:nvPr/>
        </p:nvSpPr>
        <p:spPr>
          <a:xfrm>
            <a:off x="468360" y="1484280"/>
            <a:ext cx="82072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ce 1951 a new era in cardiovasclar rehabil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til then it was believed that after a myocardial infarction а patient needed absolute rest in duration of at least 6 weeks (it takes 6 weeks for a fibrotic scar to form at the site of infarc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was believed that physical activity in the early phase after the acute myocardial infarction may cause dilation, or formation of a ventricular aneurysm or heart ruptu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4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DB58F-9A88-4FA2-BB46-3E30690EB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Text Box 1"/>
          <p:cNvSpPr/>
          <p:nvPr/>
        </p:nvSpPr>
        <p:spPr>
          <a:xfrm>
            <a:off x="250920" y="404640"/>
            <a:ext cx="864216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riteria for starting the rehabiliation progra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6" name="Text Box 2"/>
          <p:cNvSpPr/>
          <p:nvPr/>
        </p:nvSpPr>
        <p:spPr>
          <a:xfrm>
            <a:off x="468360" y="1989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t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volu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A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sence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the last 24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bl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lood pressu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the last 24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sence of signs of cardiac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suffici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sence of cardiac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hyth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isor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sence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romboembol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m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7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C2AAE-F251-463C-B284-BDB73ECD0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nzyme activ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ecrease of CPK level is important for the beginning of rehabil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0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0CEF3-2DFC-4584-A160-886A83483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1" name="Group 4"/>
          <p:cNvGrpSpPr/>
          <p:nvPr/>
        </p:nvGrpSpPr>
        <p:grpSpPr>
          <a:xfrm>
            <a:off x="900000" y="1628640"/>
            <a:ext cx="7328160" cy="3629160"/>
            <a:chOff x="900000" y="1628640"/>
            <a:chExt cx="7328160" cy="3629160"/>
          </a:xfrm>
        </p:grpSpPr>
        <p:sp>
          <p:nvSpPr>
            <p:cNvPr id="2072" name="Rectangle 5"/>
            <p:cNvSpPr/>
            <p:nvPr/>
          </p:nvSpPr>
          <p:spPr>
            <a:xfrm>
              <a:off x="900000" y="1628640"/>
              <a:ext cx="1820520" cy="12819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ENZY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Rectangle 6"/>
            <p:cNvSpPr/>
            <p:nvPr/>
          </p:nvSpPr>
          <p:spPr>
            <a:xfrm>
              <a:off x="2734560" y="1628640"/>
              <a:ext cx="1817280" cy="12819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FTER THE ONSET OF AI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Rectangle 7"/>
            <p:cNvSpPr/>
            <p:nvPr/>
          </p:nvSpPr>
          <p:spPr>
            <a:xfrm>
              <a:off x="4563360" y="1628640"/>
              <a:ext cx="1817280" cy="12819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Max LEVE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Rectangle 8"/>
            <p:cNvSpPr/>
            <p:nvPr/>
          </p:nvSpPr>
          <p:spPr>
            <a:xfrm>
              <a:off x="6393240" y="1628640"/>
              <a:ext cx="1817280" cy="12819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NORMALIZATION AFTER AI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Rectangle 9"/>
            <p:cNvSpPr/>
            <p:nvPr/>
          </p:nvSpPr>
          <p:spPr>
            <a:xfrm>
              <a:off x="900000" y="2926800"/>
              <a:ext cx="1820520" cy="88848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P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Rectangle 10"/>
            <p:cNvSpPr/>
            <p:nvPr/>
          </p:nvSpPr>
          <p:spPr>
            <a:xfrm>
              <a:off x="2734560" y="2926800"/>
              <a:ext cx="1817280" cy="88848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3-6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Rectangle 11"/>
            <p:cNvSpPr/>
            <p:nvPr/>
          </p:nvSpPr>
          <p:spPr>
            <a:xfrm>
              <a:off x="4563360" y="2926800"/>
              <a:ext cx="1817280" cy="88848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after 24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Rectangle 12"/>
            <p:cNvSpPr/>
            <p:nvPr/>
          </p:nvSpPr>
          <p:spPr>
            <a:xfrm>
              <a:off x="6393240" y="2926800"/>
              <a:ext cx="1817280" cy="88848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3-4 day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Rectangle 13"/>
            <p:cNvSpPr/>
            <p:nvPr/>
          </p:nvSpPr>
          <p:spPr>
            <a:xfrm>
              <a:off x="900000" y="3821760"/>
              <a:ext cx="1820520" cy="510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ST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Rectangle 14"/>
            <p:cNvSpPr/>
            <p:nvPr/>
          </p:nvSpPr>
          <p:spPr>
            <a:xfrm>
              <a:off x="2734560" y="3821760"/>
              <a:ext cx="1817280" cy="510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8-12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Rectangle 15"/>
            <p:cNvSpPr/>
            <p:nvPr/>
          </p:nvSpPr>
          <p:spPr>
            <a:xfrm>
              <a:off x="4563360" y="3821760"/>
              <a:ext cx="1817280" cy="510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18-36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Rectangle 16"/>
            <p:cNvSpPr/>
            <p:nvPr/>
          </p:nvSpPr>
          <p:spPr>
            <a:xfrm>
              <a:off x="6393240" y="3821760"/>
              <a:ext cx="1817280" cy="510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3-4 day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Rectangle 17"/>
            <p:cNvSpPr/>
            <p:nvPr/>
          </p:nvSpPr>
          <p:spPr>
            <a:xfrm>
              <a:off x="900000" y="4348800"/>
              <a:ext cx="1820520" cy="8931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LD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Rectangle 18"/>
            <p:cNvSpPr/>
            <p:nvPr/>
          </p:nvSpPr>
          <p:spPr>
            <a:xfrm>
              <a:off x="2734560" y="4348800"/>
              <a:ext cx="1817280" cy="8931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24-48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Rectangle 19"/>
            <p:cNvSpPr/>
            <p:nvPr/>
          </p:nvSpPr>
          <p:spPr>
            <a:xfrm>
              <a:off x="4563360" y="4348800"/>
              <a:ext cx="1817280" cy="8931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3-5 day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Rectangle 20"/>
            <p:cNvSpPr/>
            <p:nvPr/>
          </p:nvSpPr>
          <p:spPr>
            <a:xfrm>
              <a:off x="6393240" y="4348800"/>
              <a:ext cx="1817280" cy="8931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8-14 day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Line 21"/>
            <p:cNvSpPr/>
            <p:nvPr/>
          </p:nvSpPr>
          <p:spPr>
            <a:xfrm>
              <a:off x="2734560" y="1628640"/>
              <a:ext cx="0" cy="3613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Line 22"/>
            <p:cNvSpPr/>
            <p:nvPr/>
          </p:nvSpPr>
          <p:spPr>
            <a:xfrm>
              <a:off x="4563360" y="1628640"/>
              <a:ext cx="0" cy="3613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Line 23"/>
            <p:cNvSpPr/>
            <p:nvPr/>
          </p:nvSpPr>
          <p:spPr>
            <a:xfrm>
              <a:off x="6393240" y="1628640"/>
              <a:ext cx="0" cy="3613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Line 24"/>
            <p:cNvSpPr/>
            <p:nvPr/>
          </p:nvSpPr>
          <p:spPr>
            <a:xfrm>
              <a:off x="900000" y="2926800"/>
              <a:ext cx="7312320" cy="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2" name="Line 25"/>
            <p:cNvSpPr/>
            <p:nvPr/>
          </p:nvSpPr>
          <p:spPr>
            <a:xfrm>
              <a:off x="900000" y="3821760"/>
              <a:ext cx="7312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Line 26"/>
            <p:cNvSpPr/>
            <p:nvPr/>
          </p:nvSpPr>
          <p:spPr>
            <a:xfrm>
              <a:off x="900000" y="4348800"/>
              <a:ext cx="7312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Line 27"/>
            <p:cNvSpPr/>
            <p:nvPr/>
          </p:nvSpPr>
          <p:spPr>
            <a:xfrm>
              <a:off x="900000" y="1628640"/>
              <a:ext cx="0" cy="3613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Line 28"/>
            <p:cNvSpPr/>
            <p:nvPr/>
          </p:nvSpPr>
          <p:spPr>
            <a:xfrm>
              <a:off x="8228160" y="1628640"/>
              <a:ext cx="0" cy="3613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Line 29"/>
            <p:cNvSpPr/>
            <p:nvPr/>
          </p:nvSpPr>
          <p:spPr>
            <a:xfrm>
              <a:off x="900000" y="1628640"/>
              <a:ext cx="7312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Line 30"/>
            <p:cNvSpPr/>
            <p:nvPr/>
          </p:nvSpPr>
          <p:spPr>
            <a:xfrm>
              <a:off x="900000" y="5257800"/>
              <a:ext cx="7312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Text Box 1"/>
          <p:cNvSpPr/>
          <p:nvPr/>
        </p:nvSpPr>
        <p:spPr>
          <a:xfrm>
            <a:off x="250920" y="1252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arameters which indicate the presence of AI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Text Box 2"/>
          <p:cNvSpPr/>
          <p:nvPr/>
        </p:nvSpPr>
        <p:spPr>
          <a:xfrm>
            <a:off x="560520" y="1484280"/>
            <a:ext cx="82184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2724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1. Duration o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аnginal pai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more than 30 min (pain can be manifested in the precordium, jaw, shoulder, neck, fingers, abdomen, left arm tingling etc.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ECG chang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 elevation/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Т depression &gt;1-2 mm, pathological Q-wave and negative T-wave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Positiv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biohumoral syndrome of  myocardial necrosi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increased levels of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CP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LD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HBD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Tr in bloo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CPK elevation 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 is at least 2 times the upper limit of norm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0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8C733-6488-4C3D-858B-1C2DE810E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raindications for rehabilitation after А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Text Box 2"/>
          <p:cNvSpPr/>
          <p:nvPr/>
        </p:nvSpPr>
        <p:spPr>
          <a:xfrm>
            <a:off x="468360" y="1484280"/>
            <a:ext cx="8496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GENERA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RAINDICA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Т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200/120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m H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Т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90/60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m H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achycardi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120/mi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bradycardi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50/mi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febricit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38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C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Undergoing process of receiving a blood or plasma transfus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52F8F-D71E-49D9-BFFA-6A7FCFA06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Text Box 1"/>
          <p:cNvSpPr/>
          <p:nvPr/>
        </p:nvSpPr>
        <p:spPr>
          <a:xfrm>
            <a:off x="250920" y="1252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ardiac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raind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5" name="Text Box 2"/>
          <p:cNvSpPr/>
          <p:nvPr/>
        </p:nvSpPr>
        <p:spPr>
          <a:xfrm>
            <a:off x="457200" y="1484280"/>
            <a:ext cx="82296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stable angina pector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rt insufficiency (decompensated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rt rhythm disorder (fibrilation, atrial or ventricular flutter, ventricular tachicardia, frequent and associated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 – ventricular extrasystol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R syndrome a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Т) etc;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a single V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of up to 5-6/min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allow rehabilit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uctivity disorders (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ick sinus syndrome, 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 and 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s of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I a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gree, bundle of His block  - bifascicular block);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sr-Latn-C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block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I degree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does not represent a contraindication for KTH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FB53C-4537-41F6-BC43-97F194567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rdiac contraind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8" name="Text Box 2"/>
          <p:cNvSpPr/>
          <p:nvPr/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ute myocarditis and pericarditi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oleranc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еrgometric tes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50 W, with occurrence of 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Т depression or elevation greater than 2 mm or clinical picture of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rinz-Met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gina pecto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minen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rombophlebit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the extremities or thrombosis within the cardiac cavity (thrombophlebitis and phlebothrombosis of the extremities are contraindications for КТh, bu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ositioning and mild manual mass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 be applied for lymph drainage; When applying a massage, it is necessary to use fibrinolytic ointments, such as heparin cream; alcohol compresses are also us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DCFDA-1673-4B8D-8F95-89B679505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Text Box 1"/>
          <p:cNvSpPr/>
          <p:nvPr/>
        </p:nvSpPr>
        <p:spPr>
          <a:xfrm>
            <a:off x="250920" y="115920"/>
            <a:ext cx="856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rdiac contraind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Text Box 2"/>
          <p:cNvSpPr/>
          <p:nvPr/>
        </p:nvSpPr>
        <p:spPr>
          <a:xfrm>
            <a:off x="468360" y="1484280"/>
            <a:ext cx="8351640" cy="49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3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-findings which indicate the increase of the left ventricle by more than 6 mm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3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ccurrence of postinfarction aneurysm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3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d myocardial contractility – decrease of ejection phase below 40%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3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orbid aortic anomalies et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59EAC-3B2B-45D8-AFEA-1492F077B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Text Box 1"/>
          <p:cNvSpPr/>
          <p:nvPr/>
        </p:nvSpPr>
        <p:spPr>
          <a:xfrm>
            <a:off x="250920" y="44280"/>
            <a:ext cx="85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ims of rehabilitation after А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4" name="Text Box 2"/>
          <p:cNvSpPr/>
          <p:nvPr/>
        </p:nvSpPr>
        <p:spPr>
          <a:xfrm>
            <a:off x="468360" y="1125360"/>
            <a:ext cx="798984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ining in psychophysical resting (psychomotor relaxation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аnxie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pressi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ymptomat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tore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usc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ne and strength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lic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hrombophlebitis, hypostatic pneumonia and urinary infections (early mobilization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of threshold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gin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the activity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rdiac pum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imulate the development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lateral circ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regulation of heart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a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brinolytic syste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antiaggregation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rmonize the autonomous nervous system (catecholamin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ipid metabolis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f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tain normal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ody weigh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 ba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ife-sty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ngthen the work and lifesp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ife qu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277F4-70B3-45B4-A3BE-D9415B9B6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rdiac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0" name="Text Box 2"/>
          <p:cNvSpPr/>
          <p:nvPr/>
        </p:nvSpPr>
        <p:spPr>
          <a:xfrm>
            <a:off x="468360" y="1557360"/>
            <a:ext cx="82296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A program of activities needed to ensure the best possible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physical, emotional and social wellbein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of the cardiac patients for enabling them resume a normal life as much as possible within their family and community (WH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Aim of rehabilitation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is the restoration of the transiently lost or diminished capacity for life and work, i.e. the prevention or decrease of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disability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and improvement of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life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roperly conducted cardiac rehabilitation decreases mortality by 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27 – 31%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(WH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EE974-8BFA-4386-8698-BBC1FB933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rdiac rehabilitation process involves three pha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7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32F5E-E094-45D7-B35C-39E9ADD32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8" name="Text Box 3"/>
          <p:cNvSpPr/>
          <p:nvPr/>
        </p:nvSpPr>
        <p:spPr>
          <a:xfrm>
            <a:off x="179280" y="4076640"/>
            <a:ext cx="1656000" cy="916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diosurgical intensive-care uni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9" name="Text Box 4"/>
          <p:cNvSpPr/>
          <p:nvPr/>
        </p:nvSpPr>
        <p:spPr>
          <a:xfrm>
            <a:off x="4923000" y="3230640"/>
            <a:ext cx="1819080" cy="825120"/>
          </a:xfrm>
          <a:prstGeom prst="rect">
            <a:avLst/>
          </a:prstGeom>
          <a:solidFill>
            <a:srgbClr val="00b050"/>
          </a:solidFill>
          <a:ln cap="sq"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atient c. rehabili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3-5 wee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0" name="Text Box 5"/>
          <p:cNvSpPr/>
          <p:nvPr/>
        </p:nvSpPr>
        <p:spPr>
          <a:xfrm>
            <a:off x="4951440" y="4183200"/>
            <a:ext cx="1820880" cy="8251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atient c. rehabili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8-12 wee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1" name="Text Box 6"/>
          <p:cNvSpPr/>
          <p:nvPr/>
        </p:nvSpPr>
        <p:spPr>
          <a:xfrm>
            <a:off x="179280" y="3214800"/>
            <a:ext cx="1656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on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2" name="Text Box 7"/>
          <p:cNvSpPr/>
          <p:nvPr/>
        </p:nvSpPr>
        <p:spPr>
          <a:xfrm>
            <a:off x="7308720" y="4071960"/>
            <a:ext cx="1366920" cy="642600"/>
          </a:xfrm>
          <a:prstGeom prst="rect">
            <a:avLst/>
          </a:prstGeom>
          <a:solidFill>
            <a:srgbClr val="8ac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oci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3" name="Text Box 8"/>
          <p:cNvSpPr/>
          <p:nvPr/>
        </p:nvSpPr>
        <p:spPr>
          <a:xfrm>
            <a:off x="7308720" y="3538440"/>
            <a:ext cx="1366920" cy="368280"/>
          </a:xfrm>
          <a:prstGeom prst="rect">
            <a:avLst/>
          </a:prstGeom>
          <a:solidFill>
            <a:srgbClr val="8ac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use /fl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4" name="Text Box 9"/>
          <p:cNvSpPr/>
          <p:nvPr/>
        </p:nvSpPr>
        <p:spPr>
          <a:xfrm>
            <a:off x="2195640" y="3639960"/>
            <a:ext cx="23018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diology/ Cardiosurg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5" name="AutoShape 10"/>
          <p:cNvSpPr/>
          <p:nvPr/>
        </p:nvSpPr>
        <p:spPr>
          <a:xfrm>
            <a:off x="1835280" y="3860640"/>
            <a:ext cx="360360" cy="216000"/>
          </a:xfrm>
          <a:prstGeom prst="rightArrow">
            <a:avLst>
              <a:gd name="adj1" fmla="val 50000"/>
              <a:gd name="adj2" fmla="val 49973"/>
            </a:avLst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6" name="AutoShape 11"/>
          <p:cNvSpPr/>
          <p:nvPr/>
        </p:nvSpPr>
        <p:spPr>
          <a:xfrm rot="19920000">
            <a:off x="4497480" y="3587400"/>
            <a:ext cx="458640" cy="254160"/>
          </a:xfrm>
          <a:prstGeom prst="rightArrow">
            <a:avLst>
              <a:gd name="adj1" fmla="val 50000"/>
              <a:gd name="adj2" fmla="val 57001"/>
            </a:avLst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AutoShape 12"/>
          <p:cNvSpPr/>
          <p:nvPr/>
        </p:nvSpPr>
        <p:spPr>
          <a:xfrm rot="2340000">
            <a:off x="4541400" y="4128840"/>
            <a:ext cx="457200" cy="252360"/>
          </a:xfrm>
          <a:prstGeom prst="rightArrow">
            <a:avLst>
              <a:gd name="adj1" fmla="val 50000"/>
              <a:gd name="adj2" fmla="val 57068"/>
            </a:avLst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8" name="AutoShape 13"/>
          <p:cNvSpPr/>
          <p:nvPr/>
        </p:nvSpPr>
        <p:spPr>
          <a:xfrm rot="2400000">
            <a:off x="6697440" y="3685680"/>
            <a:ext cx="457200" cy="254160"/>
          </a:xfrm>
          <a:prstGeom prst="rightArrow">
            <a:avLst>
              <a:gd name="adj1" fmla="val 50000"/>
              <a:gd name="adj2" fmla="val 57022"/>
            </a:avLst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9" name="AutoShape 14"/>
          <p:cNvSpPr/>
          <p:nvPr/>
        </p:nvSpPr>
        <p:spPr>
          <a:xfrm rot="19440000">
            <a:off x="6721200" y="4095720"/>
            <a:ext cx="458640" cy="254160"/>
          </a:xfrm>
          <a:prstGeom prst="rightArrow">
            <a:avLst>
              <a:gd name="adj1" fmla="val 50000"/>
              <a:gd name="adj2" fmla="val 57001"/>
            </a:avLst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0" name="Line 15"/>
          <p:cNvSpPr/>
          <p:nvPr/>
        </p:nvSpPr>
        <p:spPr>
          <a:xfrm>
            <a:off x="4554360" y="1916280"/>
            <a:ext cx="1800" cy="4392360"/>
          </a:xfrm>
          <a:prstGeom prst="line">
            <a:avLst/>
          </a:prstGeom>
          <a:ln cap="sq"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1" name="Line 16"/>
          <p:cNvSpPr/>
          <p:nvPr/>
        </p:nvSpPr>
        <p:spPr>
          <a:xfrm>
            <a:off x="7093080" y="1916280"/>
            <a:ext cx="1440" cy="4392360"/>
          </a:xfrm>
          <a:prstGeom prst="line">
            <a:avLst/>
          </a:prstGeom>
          <a:ln cap="sq"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2" name="Text Box 17"/>
          <p:cNvSpPr/>
          <p:nvPr/>
        </p:nvSpPr>
        <p:spPr>
          <a:xfrm>
            <a:off x="416520" y="1471680"/>
            <a:ext cx="28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 phase of hospit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3" name="Text Box 18"/>
          <p:cNvSpPr/>
          <p:nvPr/>
        </p:nvSpPr>
        <p:spPr>
          <a:xfrm>
            <a:off x="725040" y="2133720"/>
            <a:ext cx="33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cute and early post-acute phas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4" name="Text Box 19"/>
          <p:cNvSpPr/>
          <p:nvPr/>
        </p:nvSpPr>
        <p:spPr>
          <a:xfrm>
            <a:off x="4554360" y="1449360"/>
            <a:ext cx="236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 phase of convalescen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5" name="Text Box 20"/>
          <p:cNvSpPr/>
          <p:nvPr/>
        </p:nvSpPr>
        <p:spPr>
          <a:xfrm>
            <a:off x="4737240" y="2133720"/>
            <a:ext cx="235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late post-acute phas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6" name="Text Box 21"/>
          <p:cNvSpPr/>
          <p:nvPr/>
        </p:nvSpPr>
        <p:spPr>
          <a:xfrm>
            <a:off x="7093080" y="1455840"/>
            <a:ext cx="20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I phase of post-convalesc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7" name="Text Box 22"/>
          <p:cNvSpPr/>
          <p:nvPr/>
        </p:nvSpPr>
        <p:spPr>
          <a:xfrm>
            <a:off x="7183440" y="2133720"/>
            <a:ext cx="17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maintenance phas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8" name="Text Box 23"/>
          <p:cNvSpPr/>
          <p:nvPr/>
        </p:nvSpPr>
        <p:spPr>
          <a:xfrm>
            <a:off x="2320920" y="53578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9" name="Text Box 24"/>
          <p:cNvSpPr/>
          <p:nvPr/>
        </p:nvSpPr>
        <p:spPr>
          <a:xfrm>
            <a:off x="4572000" y="5429160"/>
            <a:ext cx="25002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eeks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 (2-1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- monitored physical train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- psychological suppo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- edu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Change of life sty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0" name="Text Box 25"/>
          <p:cNvSpPr/>
          <p:nvPr/>
        </p:nvSpPr>
        <p:spPr>
          <a:xfrm>
            <a:off x="7664400" y="54291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e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Text Box 1"/>
          <p:cNvSpPr/>
          <p:nvPr/>
        </p:nvSpPr>
        <p:spPr>
          <a:xfrm>
            <a:off x="250920" y="1252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I phase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– phase of hospitaliz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Text Box 2"/>
          <p:cNvSpPr/>
          <p:nvPr/>
        </p:nvSpPr>
        <p:spPr>
          <a:xfrm>
            <a:off x="457200" y="1222200"/>
            <a:ext cx="81374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20000"/>
              </a:lnSpc>
              <a:spcBef>
                <a:spcPts val="74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ercise program should never be started earlier than 2 days after the occurrence of A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20000"/>
              </a:lnSpc>
              <a:spcBef>
                <a:spcPts val="74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ally, it starts on the 2</a:t>
            </a:r>
            <a:r>
              <a:rPr b="0" lang="en-US" sz="2400" spc="-1" strike="noStrike" baseline="33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ay, but in practice, it is more often on 3</a:t>
            </a:r>
            <a:r>
              <a:rPr b="0" lang="en-US" sz="2400" spc="-1" strike="noStrike" baseline="33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4</a:t>
            </a:r>
            <a:r>
              <a:rPr b="0" lang="en-US" sz="2400" spc="-1" strike="noStrike" baseline="33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a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20000"/>
              </a:lnSpc>
              <a:spcBef>
                <a:spcPts val="74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eginning of an exercise program i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dividu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20000"/>
              </a:lnSpc>
              <a:spcBef>
                <a:spcPts val="74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hysical training is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dividually dosed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interval and control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20000"/>
              </a:lnSpc>
              <a:spcBef>
                <a:spcPts val="74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t always starts with progressiv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relaxa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rding to Schultz and unforced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аbdominal breathing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bdominal type of breathing requires a smaller energy expenditu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3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26113-E674-4CD4-9777-54F3EB684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Text Box 1"/>
          <p:cNvSpPr/>
          <p:nvPr/>
        </p:nvSpPr>
        <p:spPr>
          <a:xfrm>
            <a:off x="250920" y="1252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Program 10 steps for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0 day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5" name="Text Box 2"/>
          <p:cNvSpPr/>
          <p:nvPr/>
        </p:nvSpPr>
        <p:spPr>
          <a:xfrm>
            <a:off x="468360" y="1484280"/>
            <a:ext cx="83516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I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exercises in a lying position („а“; „b“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II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exercises in a seating position („а“; „b“ and „c“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III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th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viou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+ standing next to b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IV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eviou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+ walking in a ro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V day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the previou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+ walking along a corridor of up to 50 m in leng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VI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the previou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+ 100-200 m of wal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805AD-9435-4D09-AC87-0DB4FE071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Program 10 steps for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0 day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Text Box 2"/>
          <p:cNvSpPr/>
          <p:nvPr/>
        </p:nvSpPr>
        <p:spPr>
          <a:xfrm>
            <a:off x="468360" y="1484280"/>
            <a:ext cx="82296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46240" indent="-2462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246240"/>
                <a:tab algn="l" pos="70344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VII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he previous + Mylin training staircase (it consists of 3 steps up and 3 steps down); the patient should repeat climbing up and down 5 times (training load corresponds to climbing stairs to the first floor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246240"/>
                <a:tab algn="l" pos="70344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VIII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he previous + climbing stairs to the 2</a:t>
            </a:r>
            <a:r>
              <a:rPr b="0" lang="en-US" sz="2400" spc="-1" strike="noStrike" baseline="33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l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240" indent="-24624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246240"/>
                <a:tab algn="l" pos="70344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X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he previous + climbing stairs to the 3</a:t>
            </a:r>
            <a:r>
              <a:rPr b="0" lang="en-US" sz="2400" spc="-1" strike="noStrike" baseline="33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l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240" indent="-24624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246240"/>
                <a:tab algn="l" pos="70344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X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the previous + limb-loaded ergometer cycl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8A0D2-AEE3-4875-A68B-6CE758234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Text Box 1"/>
          <p:cNvSpPr/>
          <p:nvPr/>
        </p:nvSpPr>
        <p:spPr>
          <a:xfrm>
            <a:off x="324000" y="125280"/>
            <a:ext cx="84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II phase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– convalescence ph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Text Box 2"/>
          <p:cNvSpPr/>
          <p:nvPr/>
        </p:nvSpPr>
        <p:spPr>
          <a:xfrm>
            <a:off x="468360" y="1484280"/>
            <a:ext cx="82296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inue with an early rehabilitation program 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pecialized institu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r cardiovascular rehabilitatio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Controlled physical training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breathing exercises and muscle shaping exercises; interval ergometer training; walks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Psychological support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anxiety; depress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education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hygienic-dietray regime; risk facto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Change of life st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institutions provide continuation of physical activity which should b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ifelo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20681-82C3-4079-89E4-B15CDFCB1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Text Box 1"/>
          <p:cNvSpPr/>
          <p:nvPr/>
        </p:nvSpPr>
        <p:spPr>
          <a:xfrm>
            <a:off x="250920" y="484200"/>
            <a:ext cx="856908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phase – post-convalescence ph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Text Box 2"/>
          <p:cNvSpPr/>
          <p:nvPr/>
        </p:nvSpPr>
        <p:spPr>
          <a:xfrm>
            <a:off x="468360" y="1268280"/>
            <a:ext cx="82296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Dosed physical activity according to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Andersen's form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x. heart rate =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200 (210) – years of lif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(±5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maximal frequency: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70-80% HRm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Lifelong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а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8EC46C-DB5A-44D7-B9CB-5FC15A439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Text Box 1"/>
          <p:cNvSpPr/>
          <p:nvPr/>
        </p:nvSpPr>
        <p:spPr>
          <a:xfrm>
            <a:off x="324000" y="404640"/>
            <a:ext cx="84960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for discontinuation of КТh program after A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7" name="Text Box 2"/>
          <p:cNvSpPr/>
          <p:nvPr/>
        </p:nvSpPr>
        <p:spPr>
          <a:xfrm>
            <a:off x="365040" y="1484280"/>
            <a:ext cx="8474040" cy="52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achycardia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30 /mi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a 30% increase in comparison with the resting perio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verdosed exercises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decrease the volume and intensity of exercises or discontinue the training for a wh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lood pressur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180/120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mm Hg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he permitted increase of  АТ and PULSE is up to 30% of the value at re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ccurrence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аrythm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gina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eling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hortness of breath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getting tired eas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dde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leness or cyanosi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sudden decrease of ТА and pulse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F8718-4EDD-4CF8-A7BB-5374FA882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Text Box 1"/>
          <p:cNvSpPr/>
          <p:nvPr/>
        </p:nvSpPr>
        <p:spPr>
          <a:xfrm>
            <a:off x="250920" y="115920"/>
            <a:ext cx="8569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Importance of early rehabilitation after AI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Text Box 2"/>
          <p:cNvSpPr/>
          <p:nvPr/>
        </p:nvSpPr>
        <p:spPr>
          <a:xfrm>
            <a:off x="468360" y="981000"/>
            <a:ext cx="852948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tion of systolic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Т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tion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ulse rat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ed need for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the myocardiu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rease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riglyceride level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the serum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nge of </a:t>
            </a:r>
            <a:r>
              <a:rPr b="1" lang="sr-Latn-CS" sz="2200" spc="-1" strike="noStrike">
                <a:solidFill>
                  <a:srgbClr val="000000"/>
                </a:solidFill>
                <a:latin typeface="Calibri"/>
              </a:rPr>
              <a:t>HDL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sr-Latn-CS" sz="2200" spc="-1" strike="noStrike">
                <a:solidFill>
                  <a:srgbClr val="000000"/>
                </a:solidFill>
                <a:latin typeface="Calibri"/>
              </a:rPr>
              <a:t>LDL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atio in favour of protective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HD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tion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ody weigh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rovement of the coronary flow and improved formation of the collateral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ronary blood flow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tion of the occurrence of the lung atelectasis and hypostatic pneumoni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tion of thromboembolic complication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rovement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ibrinolytic activ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rease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аnxiety and depressive manifestation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rease of hospital lengt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rease of physical and professional disabil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rease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orbidity and mortality rat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tc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3FBDB1-92A2-48B9-94FF-F9593945A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Text Box 1"/>
          <p:cNvSpPr/>
          <p:nvPr/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Rehabilitation of pulmonary patient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(Respiratory rehabilitatio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3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B0092-9EFA-4F6B-91A3-19B788730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Text Box 1"/>
          <p:cNvSpPr/>
          <p:nvPr/>
        </p:nvSpPr>
        <p:spPr>
          <a:xfrm>
            <a:off x="250920" y="561960"/>
            <a:ext cx="85690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finition of respiratory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5" name="Text Box 2"/>
          <p:cNvSpPr/>
          <p:nvPr/>
        </p:nvSpPr>
        <p:spPr>
          <a:xfrm>
            <a:off x="468360" y="1484280"/>
            <a:ext cx="821844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Pulmonary rehabilitation is defined as an evidence-based,   multidisciplinary, comprehensive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exercise and educatio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progra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designed to reduce symptoms of COPD, which restrict  daily life of these patients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While being integrated in the individual patient treatment, pulmonary rehabilitation has been designed to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reduce the symptom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maintain the functional statu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increase active participatio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of patients and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reduce the cost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in healthcare through stabilization of systemic manifestations of this disease.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Common working groups of European Respiratory Society (ЕRS) and American Thoracic Society (АТS)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6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091FE-8603-4320-AF0A-A81BB260A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dications for cardiovascular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Text Box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64D769-0A27-4FBF-BE7E-9723CA34E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4" name="Rectangle 3"/>
          <p:cNvSpPr/>
          <p:nvPr/>
        </p:nvSpPr>
        <p:spPr>
          <a:xfrm>
            <a:off x="4127400" y="1916280"/>
            <a:ext cx="1092240" cy="5760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yocardial infar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Rectangle 4"/>
          <p:cNvSpPr/>
          <p:nvPr/>
        </p:nvSpPr>
        <p:spPr>
          <a:xfrm>
            <a:off x="5584680" y="2492280"/>
            <a:ext cx="2300400" cy="4572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. after coronary angioplastic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Rectangle 5"/>
          <p:cNvSpPr/>
          <p:nvPr/>
        </p:nvSpPr>
        <p:spPr>
          <a:xfrm>
            <a:off x="6084720" y="3213000"/>
            <a:ext cx="2298960" cy="4572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. after open-heart surge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Rectangle 6"/>
          <p:cNvSpPr/>
          <p:nvPr/>
        </p:nvSpPr>
        <p:spPr>
          <a:xfrm>
            <a:off x="6188040" y="3789360"/>
            <a:ext cx="1984320" cy="57636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ve reconstruction or artificial replace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Rectangle 7"/>
          <p:cNvSpPr/>
          <p:nvPr/>
        </p:nvSpPr>
        <p:spPr>
          <a:xfrm>
            <a:off x="6084720" y="4508640"/>
            <a:ext cx="1092240" cy="5760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ngina pector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Rectangle 8"/>
          <p:cNvSpPr/>
          <p:nvPr/>
        </p:nvSpPr>
        <p:spPr>
          <a:xfrm>
            <a:off x="5373720" y="5373720"/>
            <a:ext cx="1574640" cy="57636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ardiac insufficienc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Rectangle 9"/>
          <p:cNvSpPr/>
          <p:nvPr/>
        </p:nvSpPr>
        <p:spPr>
          <a:xfrm>
            <a:off x="2627280" y="5411880"/>
            <a:ext cx="1668600" cy="5760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erat transpla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Rectangle 10"/>
          <p:cNvSpPr/>
          <p:nvPr/>
        </p:nvSpPr>
        <p:spPr>
          <a:xfrm>
            <a:off x="1332000" y="4653000"/>
            <a:ext cx="2028600" cy="57636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urgical treatment of congenital cardiac anomal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2" name="Rectangle 11"/>
          <p:cNvSpPr/>
          <p:nvPr/>
        </p:nvSpPr>
        <p:spPr>
          <a:xfrm>
            <a:off x="900000" y="3811680"/>
            <a:ext cx="2274840" cy="5760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eripheral blood flow disea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Rectangle 12"/>
          <p:cNvSpPr/>
          <p:nvPr/>
        </p:nvSpPr>
        <p:spPr>
          <a:xfrm>
            <a:off x="1430280" y="2263680"/>
            <a:ext cx="2394000" cy="4572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ABG (Coronary Bypass Graf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Rectangle 13"/>
          <p:cNvSpPr/>
          <p:nvPr/>
        </p:nvSpPr>
        <p:spPr>
          <a:xfrm>
            <a:off x="900000" y="3205080"/>
            <a:ext cx="2392560" cy="4572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CI (Percutaneous Coronary Interventio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Text Box 1"/>
          <p:cNvSpPr/>
          <p:nvPr/>
        </p:nvSpPr>
        <p:spPr>
          <a:xfrm>
            <a:off x="250920" y="1252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ims and effects of respiratory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8" name="Text Box 2"/>
          <p:cNvSpPr/>
          <p:nvPr/>
        </p:nvSpPr>
        <p:spPr>
          <a:xfrm>
            <a:off x="468360" y="155736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26880" indent="-3268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Microsoft YaHei"/>
              </a:rPr>
              <a:t>Basic aim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of respiratory rehabilitation are as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reduction of symptom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mprovement of life quality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ncrease of physical and social participation in daily life activ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Microsoft YaHei"/>
              </a:rPr>
              <a:t>Effect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of respiratory rehabilitation are as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Decrease of respiratory symptom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mprovement of physical enduranc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Decrease in number of hospital stay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mprovement of the quality of lif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37324-7FEE-4412-93FB-EA306324A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piratory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1" name="Text Box 2"/>
          <p:cNvSpPr/>
          <p:nvPr/>
        </p:nvSpPr>
        <p:spPr>
          <a:xfrm>
            <a:off x="45720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piratory rehabilitation is used f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ulmonary diseas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obstructive and restrictiv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vention of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ostoperative complica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vention of complications occurring due to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long immobiliz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in bed-ridden patients (hypostatic pneumonia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ining in new breathing patterns 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even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pulmonary complications in patients with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pinal cord injur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878872-6EEC-41E1-9D14-0F93DD989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ulmonary diseases which allow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4" name="Text Box 2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STRUCTIV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5" name="Text Box 3"/>
          <p:cNvSpPr/>
          <p:nvPr/>
        </p:nvSpPr>
        <p:spPr>
          <a:xfrm>
            <a:off x="457200" y="2492280"/>
            <a:ext cx="4040280" cy="36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Changes involving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air passag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COP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an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Cystic fibro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6" name="Text Box 4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STRICTIV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7" name="Text Box 5"/>
          <p:cNvSpPr/>
          <p:nvPr/>
        </p:nvSpPr>
        <p:spPr>
          <a:xfrm>
            <a:off x="4645080" y="2492280"/>
            <a:ext cx="4041720" cy="36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Insufficient expansion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dilation) of the lungs du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lesions involving the chest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bones or muscl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changes of the lung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parenchym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8" name="Text Box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F99BC-570A-428E-AFAF-A119D3FBA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Functional assessment of patiens with pulmonary disea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8680" indent="-3272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Vital sig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ТА, heart rate, breathing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 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turation, body temper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nspec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breathing pattern; symmetrical chest movements; chest and spine deform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Palp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: chest wall elasticity; symmetrical chest mov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Respiratory index (breathing inde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Functional tes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: 6-min and 12-min walking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Questionnaires about daily life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1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504C1-CAF4-464F-9BDB-9AF138C2E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Text Box 1"/>
          <p:cNvSpPr/>
          <p:nvPr/>
        </p:nvSpPr>
        <p:spPr>
          <a:xfrm>
            <a:off x="250920" y="417600"/>
            <a:ext cx="8642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piratory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3" name="Text Box 2"/>
          <p:cNvSpPr/>
          <p:nvPr/>
        </p:nvSpPr>
        <p:spPr>
          <a:xfrm>
            <a:off x="457200" y="1484280"/>
            <a:ext cx="82296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7680" indent="-517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768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nchial toil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-517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768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lay of bronchial collap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-517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768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eper brea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-517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768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lowing the breathing rhyth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-517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768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orax mobilization with involvement of the anterior abdominal wall as a support for diaphragm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-517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768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ture impr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-517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768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l condition impr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4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BA9CA-3680-4C07-BFAE-17E66D911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piratory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6" name="Text Box 2"/>
          <p:cNvSpPr/>
          <p:nvPr/>
        </p:nvSpPr>
        <p:spPr>
          <a:xfrm>
            <a:off x="395280" y="1484280"/>
            <a:ext cx="82296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llowing methods are us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nhal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aerosol) Тh (before drainag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nchial drain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Relax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before breathing exerci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reathing exerc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General conditioning exerc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lneo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F9511-BB66-4A1C-9B7A-E7F86932F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Text Box 1"/>
          <p:cNvSpPr/>
          <p:nvPr/>
        </p:nvSpPr>
        <p:spPr>
          <a:xfrm>
            <a:off x="395280" y="69228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Text Box 2"/>
          <p:cNvSpPr/>
          <p:nvPr/>
        </p:nvSpPr>
        <p:spPr>
          <a:xfrm>
            <a:off x="349200" y="1484280"/>
            <a:ext cx="40402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68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ence of bronchospasm and se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ir enters the lungs more easily than it comes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ient is apt to use axilliary breathing muscul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ient gets tired eas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0" name="Text Box 3"/>
          <p:cNvSpPr/>
          <p:nvPr/>
        </p:nvSpPr>
        <p:spPr>
          <a:xfrm>
            <a:off x="4643280" y="692280"/>
            <a:ext cx="4042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RAPEUTIC MEA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Text Box 4"/>
          <p:cNvSpPr/>
          <p:nvPr/>
        </p:nvSpPr>
        <p:spPr>
          <a:xfrm>
            <a:off x="4643280" y="1341360"/>
            <a:ext cx="4042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68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ha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tural drainage with percussion and vib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axation exercis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eathing exercises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l conditioning exerc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Text Box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4E7A9-72A6-4210-B97D-FC6F2DC0A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93" name="AutoShape 6"/>
          <p:cNvCxnSpPr/>
          <p:nvPr/>
        </p:nvCxnSpPr>
        <p:spPr>
          <a:xfrm>
            <a:off x="457200" y="2925720"/>
            <a:ext cx="7781040" cy="1154880"/>
          </a:xfrm>
          <a:prstGeom prst="bentConnector3">
            <a:avLst>
              <a:gd name="adj1" fmla="val 49951"/>
            </a:avLst>
          </a:prstGeom>
          <a:ln cap="sq" w="57240">
            <a:solidFill>
              <a:srgbClr val="ff0000"/>
            </a:solidFill>
            <a:miter/>
          </a:ln>
        </p:spPr>
      </p:cxn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Inhalation (aerosol)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5" name="Text Box 2"/>
          <p:cNvSpPr/>
          <p:nvPr/>
        </p:nvSpPr>
        <p:spPr>
          <a:xfrm>
            <a:off x="324000" y="1484280"/>
            <a:ext cx="8569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8680" indent="-3272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uspension of solid particles or liquid droplets in air (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-5</a:t>
            </a:r>
            <a:r>
              <a:rPr b="1" lang="el-GR" sz="2400" spc="-1" strike="noStrike">
                <a:solidFill>
                  <a:srgbClr val="ff0000"/>
                </a:solidFill>
                <a:latin typeface="Calibri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Preparation for bronchial drain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ubstances that can be administered by inhal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Medicin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bronchodilators, secretolytics, bronchoprotective medicines, expectorants, antibiotics, antimycotics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Natural agents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mineral, fresh and sea water (they have mucolythic effect, i.e.  they loosen sputu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Other substanc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physiological sali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essential o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61C5A-D1C7-4AE4-9780-AA8283211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halation (aerosol)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Text Box 2"/>
          <p:cNvSpPr/>
          <p:nvPr/>
        </p:nvSpPr>
        <p:spPr>
          <a:xfrm>
            <a:off x="324000" y="1484280"/>
            <a:ext cx="8569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Advantag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-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mmediate and rapid contact between the medicine and great surface area of the tracheobronchial stem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-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Fast onset of action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-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use of low doses of the medicine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-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A small number of systemic side effect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EC4A6-AB1D-4123-8EC8-7700039CB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halation (aerosol)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Text Box 2"/>
          <p:cNvSpPr/>
          <p:nvPr/>
        </p:nvSpPr>
        <p:spPr>
          <a:xfrm>
            <a:off x="539640" y="2216160"/>
            <a:ext cx="82296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erosol therapy is applied with the use of a standard jet-nebulizer with continuous airway pressure of 5k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FA8361-022E-455B-BAF5-4B038E9D6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Rehabilitation t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Text Box 2"/>
          <p:cNvSpPr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Cardiologist (supervis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Physiat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Physiotherapist; occupational therapi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Nu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Psycholog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Nutrition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Social work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Occupational medicine specia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4C9CF-47CD-4F55-AC2C-B44A0F3AE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Text Box 1"/>
          <p:cNvSpPr/>
          <p:nvPr/>
        </p:nvSpPr>
        <p:spPr>
          <a:xfrm>
            <a:off x="250920" y="333360"/>
            <a:ext cx="85690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 Drainage of respiratory airway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Text Box 2"/>
          <p:cNvSpPr/>
          <p:nvPr/>
        </p:nvSpPr>
        <p:spPr>
          <a:xfrm>
            <a:off x="457200" y="1189080"/>
            <a:ext cx="82296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It is applied on the Mascagni's bed for posture drain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with the tilt mechanism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5 - 30 m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he positions for postural drainage include:</a:t>
            </a:r>
            <a:br>
              <a:rPr sz="20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 Initial drainage position —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depends on the lung segment that we wish to drai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in order to move the mucus more rapidly through the trache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Principl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oblique lying position with the head bent down — such that gravity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a maximal effect of facilitating  the mucus drainage from the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airway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the lung segment to be drained is uppermost on the patient's bo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Definite drainage position —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for tracheal drainage, we use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oblique lying posi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6DCF2-F790-40E0-9FDE-CB5053747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Text Box 1"/>
          <p:cNvSpPr/>
          <p:nvPr/>
        </p:nvSpPr>
        <p:spPr>
          <a:xfrm>
            <a:off x="250920" y="274680"/>
            <a:ext cx="86421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rainage of respiratory pass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7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152D8-C8DC-4A41-9095-D439947F6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8" name="Picture 3" descr=""/>
          <p:cNvPicPr/>
          <p:nvPr/>
        </p:nvPicPr>
        <p:blipFill>
          <a:blip r:embed="rId1"/>
          <a:srcRect l="12354" t="26407" r="62658" b="8076"/>
          <a:stretch/>
        </p:blipFill>
        <p:spPr>
          <a:xfrm>
            <a:off x="611280" y="1268280"/>
            <a:ext cx="3240000" cy="4969080"/>
          </a:xfrm>
          <a:prstGeom prst="rect">
            <a:avLst/>
          </a:prstGeom>
          <a:ln w="0">
            <a:noFill/>
          </a:ln>
        </p:spPr>
      </p:pic>
      <p:pic>
        <p:nvPicPr>
          <p:cNvPr id="2209" name="Picture 4" descr=""/>
          <p:cNvPicPr/>
          <p:nvPr/>
        </p:nvPicPr>
        <p:blipFill>
          <a:blip r:embed="rId2"/>
          <a:srcRect l="8232" t="10123" r="7726" b="10108"/>
          <a:stretch/>
        </p:blipFill>
        <p:spPr>
          <a:xfrm>
            <a:off x="4572000" y="3860640"/>
            <a:ext cx="3438360" cy="1965600"/>
          </a:xfrm>
          <a:prstGeom prst="rect">
            <a:avLst/>
          </a:prstGeom>
          <a:ln w="0">
            <a:noFill/>
          </a:ln>
        </p:spPr>
      </p:pic>
      <p:sp>
        <p:nvSpPr>
          <p:cNvPr id="2210" name="Text Box 5"/>
          <p:cNvSpPr/>
          <p:nvPr/>
        </p:nvSpPr>
        <p:spPr>
          <a:xfrm>
            <a:off x="4067280" y="1616040"/>
            <a:ext cx="468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Positions are assumed in such an order to allow shifting of the mucus towards the bronchi and the trachea, and its expulsion through cough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Text Box 6"/>
          <p:cNvSpPr/>
          <p:nvPr/>
        </p:nvSpPr>
        <p:spPr>
          <a:xfrm>
            <a:off x="4587480" y="5769000"/>
            <a:ext cx="323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ite drainage posi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oblique drainage positio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Text Box 1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rainage of respiratory pass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Text Box 2"/>
          <p:cNvSpPr/>
          <p:nvPr/>
        </p:nvSpPr>
        <p:spPr>
          <a:xfrm>
            <a:off x="285840" y="1452600"/>
            <a:ext cx="840096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Besides postural drainage, in order to achieve the removal of thick mucus from the walls of the airway passages, we simultaneously appl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4" name="Text Box 3"/>
          <p:cNvSpPr/>
          <p:nvPr/>
        </p:nvSpPr>
        <p:spPr>
          <a:xfrm>
            <a:off x="457200" y="250200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cu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5" name="Text Box 4"/>
          <p:cNvSpPr/>
          <p:nvPr/>
        </p:nvSpPr>
        <p:spPr>
          <a:xfrm>
            <a:off x="4116240" y="2502000"/>
            <a:ext cx="457056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bration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Text Box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D56A1-8BBA-4801-B50C-31F16697D92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Flutter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Breathing with the lips closed around the mouthpiece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f a handheld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Varrying the postion of the steel ball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causes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increased bronchial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R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which helps loosen secretions in the lu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retion on the bronchial walls becom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loo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ecause fluctation of P during expirium causes vibrations (8-26 Hz) which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move the secre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rom the bronchial w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37431E-9FB4-497C-959D-926918636F8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0" name="Picture 4" descr=""/>
          <p:cNvPicPr/>
          <p:nvPr/>
        </p:nvPicPr>
        <p:blipFill>
          <a:blip r:embed="rId1"/>
          <a:stretch/>
        </p:blipFill>
        <p:spPr>
          <a:xfrm>
            <a:off x="4500720" y="4699080"/>
            <a:ext cx="3886200" cy="1012680"/>
          </a:xfrm>
          <a:prstGeom prst="rect">
            <a:avLst/>
          </a:prstGeom>
          <a:ln w="0">
            <a:noFill/>
          </a:ln>
        </p:spPr>
      </p:pic>
      <p:pic>
        <p:nvPicPr>
          <p:cNvPr id="2221" name="Picture 5" descr=""/>
          <p:cNvPicPr/>
          <p:nvPr/>
        </p:nvPicPr>
        <p:blipFill>
          <a:blip r:embed="rId2"/>
          <a:stretch/>
        </p:blipFill>
        <p:spPr>
          <a:xfrm>
            <a:off x="1143000" y="5373720"/>
            <a:ext cx="2303640" cy="1025640"/>
          </a:xfrm>
          <a:prstGeom prst="rect">
            <a:avLst/>
          </a:prstGeom>
          <a:ln w="0">
            <a:noFill/>
          </a:ln>
        </p:spPr>
      </p:pic>
      <p:pic>
        <p:nvPicPr>
          <p:cNvPr id="2222" name="Picture 6" descr=""/>
          <p:cNvPicPr/>
          <p:nvPr/>
        </p:nvPicPr>
        <p:blipFill>
          <a:blip r:embed="rId3"/>
          <a:stretch/>
        </p:blipFill>
        <p:spPr>
          <a:xfrm>
            <a:off x="1143000" y="4137120"/>
            <a:ext cx="2303640" cy="106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Text Box 1"/>
          <p:cNvSpPr/>
          <p:nvPr/>
        </p:nvSpPr>
        <p:spPr>
          <a:xfrm>
            <a:off x="287280" y="0"/>
            <a:ext cx="85694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Flutter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4" name="Text Box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33F89-EF20-4E9B-BC56-3C5EC7B348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5" name="Group 3"/>
          <p:cNvGrpSpPr/>
          <p:nvPr/>
        </p:nvGrpSpPr>
        <p:grpSpPr>
          <a:xfrm>
            <a:off x="287280" y="1112760"/>
            <a:ext cx="3678120" cy="3240360"/>
            <a:chOff x="287280" y="1112760"/>
            <a:chExt cx="3678120" cy="3240360"/>
          </a:xfrm>
        </p:grpSpPr>
        <p:pic>
          <p:nvPicPr>
            <p:cNvPr id="2226" name="Picture 4" descr=""/>
            <p:cNvPicPr/>
            <p:nvPr/>
          </p:nvPicPr>
          <p:blipFill>
            <a:blip r:embed="rId1"/>
            <a:stretch/>
          </p:blipFill>
          <p:spPr>
            <a:xfrm>
              <a:off x="401760" y="1539720"/>
              <a:ext cx="3563640" cy="27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7" name="Text Box 5"/>
            <p:cNvSpPr/>
            <p:nvPr/>
          </p:nvSpPr>
          <p:spPr>
            <a:xfrm>
              <a:off x="287280" y="1112760"/>
              <a:ext cx="1881360" cy="72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Frequency </a:t>
              </a:r>
              <a:br>
                <a:rPr sz="1800"/>
              </a:br>
              <a:r>
                <a:rPr b="1" lang="en-GB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8-26H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8" name="Text Box 6"/>
            <p:cNvSpPr/>
            <p:nvPr/>
          </p:nvSpPr>
          <p:spPr>
            <a:xfrm>
              <a:off x="554040" y="3628440"/>
              <a:ext cx="2833560" cy="72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Bronchial volume changes in flutter therap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29" name="Group 7"/>
          <p:cNvGrpSpPr/>
          <p:nvPr/>
        </p:nvGrpSpPr>
        <p:grpSpPr>
          <a:xfrm>
            <a:off x="4267080" y="2209680"/>
            <a:ext cx="4662720" cy="4113360"/>
            <a:chOff x="4267080" y="2209680"/>
            <a:chExt cx="4662720" cy="4113360"/>
          </a:xfrm>
        </p:grpSpPr>
        <p:pic>
          <p:nvPicPr>
            <p:cNvPr id="2230" name="Picture 8" descr=""/>
            <p:cNvPicPr/>
            <p:nvPr/>
          </p:nvPicPr>
          <p:blipFill>
            <a:blip r:embed="rId2"/>
            <a:stretch/>
          </p:blipFill>
          <p:spPr>
            <a:xfrm>
              <a:off x="4267080" y="2209680"/>
              <a:ext cx="4662720" cy="411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1" name="Text Box 9"/>
            <p:cNvSpPr/>
            <p:nvPr/>
          </p:nvSpPr>
          <p:spPr>
            <a:xfrm>
              <a:off x="4282920" y="4179960"/>
              <a:ext cx="137016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mouthpie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2" name="Text Box 10"/>
            <p:cNvSpPr/>
            <p:nvPr/>
          </p:nvSpPr>
          <p:spPr>
            <a:xfrm>
              <a:off x="7694640" y="4876920"/>
              <a:ext cx="115884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steel bal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flective breathing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Text Box 2"/>
          <p:cNvSpPr/>
          <p:nvPr/>
        </p:nvSpPr>
        <p:spPr>
          <a:xfrm>
            <a:off x="457200" y="1844640"/>
            <a:ext cx="8229600" cy="42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26880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nvolve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manual manouvers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respiratory gymnastic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; applying pressure with finger tips, wrists or thumbs to the certain are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26880"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Causes pain and pressure over the muscles,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“central increase of excitability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which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makes breathing dee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26880"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ay attention about the intensity and rhythm of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stimulu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strong stimuli are blocking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the weak ones are not effective, too fast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-absence of reac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26880"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receded by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lacement of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warm and cold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compresse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on the back, chest and stomach to reduce the skin resi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6D17F-4C5C-4271-ABF9-2E33A3A50C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Text Box 1"/>
          <p:cNvSpPr/>
          <p:nvPr/>
        </p:nvSpPr>
        <p:spPr>
          <a:xfrm>
            <a:off x="250920" y="536400"/>
            <a:ext cx="8642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flective breathing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7" name="Text Box 2"/>
          <p:cNvSpPr/>
          <p:nvPr/>
        </p:nvSpPr>
        <p:spPr>
          <a:xfrm>
            <a:off x="395280" y="1981080"/>
            <a:ext cx="446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eathing exercises with the use of a ball (back posi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eathing exercises with the use of a ball (lateral posi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8" name="Picture 3" descr=""/>
          <p:cNvPicPr/>
          <p:nvPr/>
        </p:nvPicPr>
        <p:blipFill>
          <a:blip r:embed="rId1"/>
          <a:stretch/>
        </p:blipFill>
        <p:spPr>
          <a:xfrm>
            <a:off x="5148360" y="1557360"/>
            <a:ext cx="3240000" cy="1727280"/>
          </a:xfrm>
          <a:prstGeom prst="rect">
            <a:avLst/>
          </a:prstGeom>
          <a:ln w="0">
            <a:noFill/>
          </a:ln>
        </p:spPr>
      </p:pic>
      <p:pic>
        <p:nvPicPr>
          <p:cNvPr id="2239" name="Picture 4" descr=""/>
          <p:cNvPicPr/>
          <p:nvPr/>
        </p:nvPicPr>
        <p:blipFill>
          <a:blip r:embed="rId2"/>
          <a:stretch/>
        </p:blipFill>
        <p:spPr>
          <a:xfrm>
            <a:off x="5148360" y="3860640"/>
            <a:ext cx="3240000" cy="1835280"/>
          </a:xfrm>
          <a:prstGeom prst="rect">
            <a:avLst/>
          </a:prstGeom>
          <a:ln w="0">
            <a:noFill/>
          </a:ln>
        </p:spPr>
      </p:pic>
      <p:sp>
        <p:nvSpPr>
          <p:cNvPr id="2240" name="Text Box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ED127-095D-4E11-B0D9-26F160314FD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Text Box 1"/>
          <p:cNvSpPr/>
          <p:nvPr/>
        </p:nvSpPr>
        <p:spPr>
          <a:xfrm>
            <a:off x="250920" y="115920"/>
            <a:ext cx="856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flective breathing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2" name="Text Box 2"/>
          <p:cNvSpPr/>
          <p:nvPr/>
        </p:nvSpPr>
        <p:spPr>
          <a:xfrm>
            <a:off x="395280" y="1981080"/>
            <a:ext cx="4824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Maneuver with pressure on the medial edge of the scap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Manipulation of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. pectoralis maj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3" name="Picture 3" descr=""/>
          <p:cNvPicPr/>
          <p:nvPr/>
        </p:nvPicPr>
        <p:blipFill>
          <a:blip r:embed="rId1"/>
          <a:stretch/>
        </p:blipFill>
        <p:spPr>
          <a:xfrm>
            <a:off x="5638680" y="1916280"/>
            <a:ext cx="2894040" cy="2017440"/>
          </a:xfrm>
          <a:prstGeom prst="rect">
            <a:avLst/>
          </a:prstGeom>
          <a:ln w="0">
            <a:noFill/>
          </a:ln>
        </p:spPr>
      </p:pic>
      <p:pic>
        <p:nvPicPr>
          <p:cNvPr id="2244" name="Picture 4" descr=""/>
          <p:cNvPicPr/>
          <p:nvPr/>
        </p:nvPicPr>
        <p:blipFill>
          <a:blip r:embed="rId2"/>
          <a:stretch/>
        </p:blipFill>
        <p:spPr>
          <a:xfrm>
            <a:off x="5624640" y="4467240"/>
            <a:ext cx="2894040" cy="1886040"/>
          </a:xfrm>
          <a:prstGeom prst="rect">
            <a:avLst/>
          </a:prstGeom>
          <a:ln w="0">
            <a:noFill/>
          </a:ln>
        </p:spPr>
      </p:pic>
      <p:sp>
        <p:nvSpPr>
          <p:cNvPr id="2245" name="Text Box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5CE0F-42F8-48EF-88E8-CD78AD6239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Text Box 1"/>
          <p:cNvSpPr/>
          <p:nvPr/>
        </p:nvSpPr>
        <p:spPr>
          <a:xfrm>
            <a:off x="250920" y="345960"/>
            <a:ext cx="85690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Relax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Text Box 2"/>
          <p:cNvSpPr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5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uct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before exercis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5 – 20 m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ient should lie on his back with mildly bent legs at the knees (a pillow is placed under the knees) and listen to the calming mus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5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cle relax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5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ntal relaxatio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3631E-C9EE-4933-A842-3E4A56BB3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4. Breathing exerci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0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4098E-984E-454C-9AE7-5E3DDD23C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nical assessment of functional capac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9" name="Text Box 2"/>
          <p:cNvSpPr/>
          <p:nvPr/>
        </p:nvSpPr>
        <p:spPr>
          <a:xfrm>
            <a:off x="457200" y="155736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est parameter of the functional capacity of the cardiac patients: determination of the oxygen consumption (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and "anaerobic threshold"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he largest amount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loo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the heart can offer to the tissues and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he largest amount o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hich muscle fibers can utilise during intense exerc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value is usually expressed b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units of metabolic equivalent at res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МЕТ)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MET = consumption of 3,5 ml О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per kg/body weight/m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1 МЕТ corresponds to the level o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 consumption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) in a healthy man weighing 70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kg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, at rest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0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09EDB-9A4A-4C43-91B3-900FE4D0D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Inspiratory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muscula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Text Box 2"/>
          <p:cNvSpPr/>
          <p:nvPr/>
        </p:nvSpPr>
        <p:spPr>
          <a:xfrm>
            <a:off x="4572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aphrag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inspirium and the first ⅓ of the expirium) – the primary mus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cost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uscles (extern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uxillia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spiratory muscul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F9D96E-99EA-473D-8A48-59580CDC8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Expiratory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muscula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Text Box 2"/>
          <p:cNvSpPr/>
          <p:nvPr/>
        </p:nvSpPr>
        <p:spPr>
          <a:xfrm>
            <a:off x="1249200" y="1600200"/>
            <a:ext cx="620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IRATION – passive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bdomi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uxillia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еxpirator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latissimus dor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. quadratus lumbo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. serratus posterior in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51346-5F6B-4F5F-971F-DC6322759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7" name="Rectangle 4"/>
          <p:cNvSpPr/>
          <p:nvPr/>
        </p:nvSpPr>
        <p:spPr>
          <a:xfrm>
            <a:off x="7380360" y="1027080"/>
            <a:ext cx="154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Rectangle 5"/>
          <p:cNvSpPr/>
          <p:nvPr/>
        </p:nvSpPr>
        <p:spPr>
          <a:xfrm>
            <a:off x="8161200" y="1484280"/>
            <a:ext cx="9003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9" name="Rectangle 6"/>
          <p:cNvSpPr/>
          <p:nvPr/>
        </p:nvSpPr>
        <p:spPr>
          <a:xfrm>
            <a:off x="5435640" y="1628640"/>
            <a:ext cx="1081080" cy="31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Text Box 1"/>
          <p:cNvSpPr/>
          <p:nvPr/>
        </p:nvSpPr>
        <p:spPr>
          <a:xfrm>
            <a:off x="227160" y="-6660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reathing exercis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Text Box 2"/>
          <p:cNvSpPr/>
          <p:nvPr/>
        </p:nvSpPr>
        <p:spPr>
          <a:xfrm>
            <a:off x="457200" y="1278000"/>
            <a:ext cx="822960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14-16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breaths/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adults; an infant 4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/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˃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 pathological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eath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Exercises have an effect only on the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auxilliary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rеspiratory muscles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bdominal and the levator muscles of the rib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while the main respiratory muscle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do not improve their function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(Campbel, 196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Diaphragmatic breathing is seen in men, while women use costal brea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Air resistance is 2-3 times greater when breathing through the nose than through the mou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66520-F872-413D-AAD3-8FDFDAAC0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ims of respiratory K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ncrease of lung venti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Decrease of E consumption required for brea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revention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/alleviation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of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choking atta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ncrease of the chest mo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Elimination of the bronchogenic se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OTHER aim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revention of deformitie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/correction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of the chest sha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Decrease of pleural eff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revention of adhesion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ain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24EF2-45FA-4761-A1B0-7C1AF56D4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Text Box 1"/>
          <p:cNvSpPr/>
          <p:nvPr/>
        </p:nvSpPr>
        <p:spPr>
          <a:xfrm>
            <a:off x="324000" y="115920"/>
            <a:ext cx="84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reathing exercis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7" name="Text Box 2"/>
          <p:cNvSpPr/>
          <p:nvPr/>
        </p:nvSpPr>
        <p:spPr>
          <a:xfrm>
            <a:off x="457200" y="1484280"/>
            <a:ext cx="82296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Principles of breathing exercis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Patient has a shor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inspiriu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inhalation) through the nose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then a slow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expiriu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exalation) with the mouth half-o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Expirium is 2-3 times longer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han inspir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Patient should use (elevate) auxilliary respiratory muscles (exercises for strengthening the abdominal muscles) and hold arms on the stom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hese exercises are first performed in a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lying positio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sittin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and then, while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wal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8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9FCBD-E033-4C8B-81D0-CFB5DF6EC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Text Box 1"/>
          <p:cNvSpPr/>
          <p:nvPr/>
        </p:nvSpPr>
        <p:spPr>
          <a:xfrm>
            <a:off x="250920" y="549360"/>
            <a:ext cx="8569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reathing exerci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0" name="Text Box 2"/>
          <p:cNvSpPr/>
          <p:nvPr/>
        </p:nvSpPr>
        <p:spPr>
          <a:xfrm>
            <a:off x="4284720" y="1981080"/>
            <a:ext cx="460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aphragmatic and lower costal breathing tra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ndbag breathing for diaphragm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1" name="Picture 3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3189240" cy="1935000"/>
          </a:xfrm>
          <a:prstGeom prst="rect">
            <a:avLst/>
          </a:prstGeom>
          <a:ln w="0">
            <a:noFill/>
          </a:ln>
        </p:spPr>
      </p:pic>
      <p:pic>
        <p:nvPicPr>
          <p:cNvPr id="2272" name="Picture 4" descr=""/>
          <p:cNvPicPr/>
          <p:nvPr/>
        </p:nvPicPr>
        <p:blipFill>
          <a:blip r:embed="rId2"/>
          <a:stretch/>
        </p:blipFill>
        <p:spPr>
          <a:xfrm>
            <a:off x="468360" y="4149720"/>
            <a:ext cx="3189240" cy="1908360"/>
          </a:xfrm>
          <a:prstGeom prst="rect">
            <a:avLst/>
          </a:prstGeom>
          <a:ln w="0">
            <a:noFill/>
          </a:ln>
        </p:spPr>
      </p:pic>
      <p:sp>
        <p:nvSpPr>
          <p:cNvPr id="2273" name="Text Box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E40C4-2C87-438B-8BB0-2879746C7CA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Text Box 1"/>
          <p:cNvSpPr/>
          <p:nvPr/>
        </p:nvSpPr>
        <p:spPr>
          <a:xfrm>
            <a:off x="250920" y="115920"/>
            <a:ext cx="856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reathing exerci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5" name="Text Box 2"/>
          <p:cNvSpPr/>
          <p:nvPr/>
        </p:nvSpPr>
        <p:spPr>
          <a:xfrm>
            <a:off x="4648320" y="1981080"/>
            <a:ext cx="410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wing the cand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wing the whis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6" name="Picture 3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2616120" cy="1654200"/>
          </a:xfrm>
          <a:prstGeom prst="rect">
            <a:avLst/>
          </a:prstGeom>
          <a:ln w="0">
            <a:noFill/>
          </a:ln>
        </p:spPr>
      </p:pic>
      <p:pic>
        <p:nvPicPr>
          <p:cNvPr id="2277" name="Picture 4" descr=""/>
          <p:cNvPicPr/>
          <p:nvPr/>
        </p:nvPicPr>
        <p:blipFill>
          <a:blip r:embed="rId2"/>
          <a:stretch/>
        </p:blipFill>
        <p:spPr>
          <a:xfrm>
            <a:off x="755640" y="4292640"/>
            <a:ext cx="2577960" cy="1800360"/>
          </a:xfrm>
          <a:prstGeom prst="rect">
            <a:avLst/>
          </a:prstGeom>
          <a:ln w="0">
            <a:noFill/>
          </a:ln>
        </p:spPr>
      </p:pic>
      <p:sp>
        <p:nvSpPr>
          <p:cNvPr id="2278" name="Text Box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4550F-5F21-4F9A-8A29-5090E72D1FB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reathing exerci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0" name="Picture 2" descr=""/>
          <p:cNvPicPr/>
          <p:nvPr/>
        </p:nvPicPr>
        <p:blipFill>
          <a:blip r:embed="rId1"/>
          <a:stretch/>
        </p:blipFill>
        <p:spPr>
          <a:xfrm>
            <a:off x="2438280" y="1981080"/>
            <a:ext cx="3810240" cy="4114800"/>
          </a:xfrm>
          <a:prstGeom prst="rect">
            <a:avLst/>
          </a:prstGeom>
          <a:ln w="0">
            <a:noFill/>
          </a:ln>
        </p:spPr>
      </p:pic>
      <p:sp>
        <p:nvSpPr>
          <p:cNvPr id="2281" name="Text Box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99217-8D4D-4DA3-B5EF-73C78FE1162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reathing exerci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Text Box 2"/>
          <p:cNvSpPr/>
          <p:nvPr/>
        </p:nvSpPr>
        <p:spPr>
          <a:xfrm>
            <a:off x="4648320" y="2193840"/>
            <a:ext cx="410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t props for breathing exerc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wing soap bub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4" name="Picture 3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2914560" cy="2143080"/>
          </a:xfrm>
          <a:prstGeom prst="rect">
            <a:avLst/>
          </a:prstGeom>
          <a:ln w="0">
            <a:noFill/>
          </a:ln>
        </p:spPr>
      </p:pic>
      <p:pic>
        <p:nvPicPr>
          <p:cNvPr id="2285" name="Picture 4" descr=""/>
          <p:cNvPicPr/>
          <p:nvPr/>
        </p:nvPicPr>
        <p:blipFill>
          <a:blip r:embed="rId2"/>
          <a:stretch/>
        </p:blipFill>
        <p:spPr>
          <a:xfrm>
            <a:off x="952560" y="2057400"/>
            <a:ext cx="2971800" cy="1677960"/>
          </a:xfrm>
          <a:prstGeom prst="rect">
            <a:avLst/>
          </a:prstGeom>
          <a:ln w="0">
            <a:noFill/>
          </a:ln>
        </p:spPr>
      </p:pic>
      <p:sp>
        <p:nvSpPr>
          <p:cNvPr id="2286" name="Text Box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D6EA0-DEFE-43A2-8FAC-A9F3AFF717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RS" sz="36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eneral conditioning exerci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Text Box 2"/>
          <p:cNvSpPr/>
          <p:nvPr/>
        </p:nvSpPr>
        <p:spPr>
          <a:xfrm>
            <a:off x="45720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Cycloergometer exerc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Various  gymnastic exercises involving the extremities, abdominal and back musculature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lking; exercises with weights; Tai-chi; hydro-КТ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IM: 20-30 min, 2-3 times/week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hese exercises should be performed at 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9EF69C-E435-4FB0-9D4A-EFF54AB5A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Physical workload, </a:t>
            </a:r>
            <a:r>
              <a:rPr b="1" lang="en-US" sz="3400" spc="-1" strike="noStrike">
                <a:solidFill>
                  <a:srgbClr val="ff0000"/>
                </a:solidFill>
                <a:latin typeface="Calibri"/>
              </a:rPr>
              <a:t> functional capacity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, physiological symptoms and </a:t>
            </a:r>
            <a:r>
              <a:rPr b="1" lang="hr-HR" sz="3400" spc="-1" strike="noStrike">
                <a:solidFill>
                  <a:srgbClr val="000000"/>
                </a:solidFill>
                <a:latin typeface="Calibri"/>
              </a:rPr>
              <a:t>ME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2" name="Group 2"/>
          <p:cNvGrpSpPr/>
          <p:nvPr/>
        </p:nvGrpSpPr>
        <p:grpSpPr>
          <a:xfrm>
            <a:off x="179280" y="1341360"/>
            <a:ext cx="8769600" cy="5408640"/>
            <a:chOff x="179280" y="1341360"/>
            <a:chExt cx="8769600" cy="5408640"/>
          </a:xfrm>
        </p:grpSpPr>
        <p:sp>
          <p:nvSpPr>
            <p:cNvPr id="2013" name="Rectangle 3"/>
            <p:cNvSpPr/>
            <p:nvPr/>
          </p:nvSpPr>
          <p:spPr>
            <a:xfrm>
              <a:off x="179280" y="1341360"/>
              <a:ext cx="2180880" cy="9903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Workload grou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4" name="Rectangle 4"/>
            <p:cNvSpPr/>
            <p:nvPr/>
          </p:nvSpPr>
          <p:spPr>
            <a:xfrm>
              <a:off x="2374200" y="1341360"/>
              <a:ext cx="1458360" cy="9903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Functional capacit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Rectangle 5"/>
            <p:cNvSpPr/>
            <p:nvPr/>
          </p:nvSpPr>
          <p:spPr>
            <a:xfrm>
              <a:off x="3842640" y="1341360"/>
              <a:ext cx="3386880" cy="9903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Functional symptom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Rectangle 6"/>
            <p:cNvSpPr/>
            <p:nvPr/>
          </p:nvSpPr>
          <p:spPr>
            <a:xfrm>
              <a:off x="7247160" y="1341360"/>
              <a:ext cx="1685520" cy="9903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МЕ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Rectangle 7"/>
            <p:cNvSpPr/>
            <p:nvPr/>
          </p:nvSpPr>
          <p:spPr>
            <a:xfrm>
              <a:off x="179280" y="2347560"/>
              <a:ext cx="2180880" cy="74412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eavy to very heavy 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Rectangle 8"/>
            <p:cNvSpPr/>
            <p:nvPr/>
          </p:nvSpPr>
          <p:spPr>
            <a:xfrm>
              <a:off x="2374200" y="2347560"/>
              <a:ext cx="1458360" cy="74412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Norm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Rectangle 9"/>
            <p:cNvSpPr/>
            <p:nvPr/>
          </p:nvSpPr>
          <p:spPr>
            <a:xfrm>
              <a:off x="3842640" y="2347560"/>
              <a:ext cx="3386880" cy="74412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symptomati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Rectangle 10"/>
            <p:cNvSpPr/>
            <p:nvPr/>
          </p:nvSpPr>
          <p:spPr>
            <a:xfrm>
              <a:off x="7247160" y="2347560"/>
              <a:ext cx="1685520" cy="74412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≥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Rectangle 11"/>
            <p:cNvSpPr/>
            <p:nvPr/>
          </p:nvSpPr>
          <p:spPr>
            <a:xfrm>
              <a:off x="179280" y="3106080"/>
              <a:ext cx="2180880" cy="8982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Medium to heavy 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Rectangle 12"/>
            <p:cNvSpPr/>
            <p:nvPr/>
          </p:nvSpPr>
          <p:spPr>
            <a:xfrm>
              <a:off x="2374200" y="3106080"/>
              <a:ext cx="1458360" cy="8982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Rectangle 13"/>
            <p:cNvSpPr/>
            <p:nvPr/>
          </p:nvSpPr>
          <p:spPr>
            <a:xfrm>
              <a:off x="3842640" y="3106080"/>
              <a:ext cx="3386880" cy="8982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ardiac disease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Calibri"/>
                </a:rPr>
                <a:t>-No limitation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of physical activi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Rectangle 14"/>
            <p:cNvSpPr/>
            <p:nvPr/>
          </p:nvSpPr>
          <p:spPr>
            <a:xfrm>
              <a:off x="7247160" y="3106080"/>
              <a:ext cx="1685520" cy="8982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˃ 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Rectangle 15"/>
            <p:cNvSpPr/>
            <p:nvPr/>
          </p:nvSpPr>
          <p:spPr>
            <a:xfrm>
              <a:off x="179280" y="4013640"/>
              <a:ext cx="2180880" cy="8982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Light to medium 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Rectangle 16"/>
            <p:cNvSpPr/>
            <p:nvPr/>
          </p:nvSpPr>
          <p:spPr>
            <a:xfrm>
              <a:off x="2374200" y="4013640"/>
              <a:ext cx="1458360" cy="8982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Rectangle 17"/>
            <p:cNvSpPr/>
            <p:nvPr/>
          </p:nvSpPr>
          <p:spPr>
            <a:xfrm>
              <a:off x="3842640" y="4013640"/>
              <a:ext cx="3386880" cy="8982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ardiac disease – slight to moderate limitation of physical activity (no symptoms at rest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Rectangle 18"/>
            <p:cNvSpPr/>
            <p:nvPr/>
          </p:nvSpPr>
          <p:spPr>
            <a:xfrm>
              <a:off x="7247160" y="4013640"/>
              <a:ext cx="1685520" cy="8982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3 – 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9" name="Rectangle 19"/>
            <p:cNvSpPr/>
            <p:nvPr/>
          </p:nvSpPr>
          <p:spPr>
            <a:xfrm>
              <a:off x="179280" y="4921560"/>
              <a:ext cx="2180880" cy="897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Sedentary to light work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0" name="Rectangle 20"/>
            <p:cNvSpPr/>
            <p:nvPr/>
          </p:nvSpPr>
          <p:spPr>
            <a:xfrm>
              <a:off x="2374200" y="4921560"/>
              <a:ext cx="1458360" cy="897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I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1" name="Rectangle 21"/>
            <p:cNvSpPr/>
            <p:nvPr/>
          </p:nvSpPr>
          <p:spPr>
            <a:xfrm>
              <a:off x="3842640" y="4921560"/>
              <a:ext cx="3386880" cy="897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ardiac disease – moderate to marked limitation of physical activity (no symptoms at rest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2" name="Rectangle 22"/>
            <p:cNvSpPr/>
            <p:nvPr/>
          </p:nvSpPr>
          <p:spPr>
            <a:xfrm>
              <a:off x="7247160" y="4921560"/>
              <a:ext cx="1685520" cy="897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2 – 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3" name="Rectangle 23"/>
            <p:cNvSpPr/>
            <p:nvPr/>
          </p:nvSpPr>
          <p:spPr>
            <a:xfrm>
              <a:off x="179280" y="5835600"/>
              <a:ext cx="2180880" cy="8978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Sedenta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4" name="Rectangle 24"/>
            <p:cNvSpPr/>
            <p:nvPr/>
          </p:nvSpPr>
          <p:spPr>
            <a:xfrm>
              <a:off x="2374200" y="5835600"/>
              <a:ext cx="1458360" cy="8978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5" name="Rectangle 25"/>
            <p:cNvSpPr/>
            <p:nvPr/>
          </p:nvSpPr>
          <p:spPr>
            <a:xfrm>
              <a:off x="3842640" y="5835600"/>
              <a:ext cx="3386880" cy="8978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ardiac disease– symptoms present,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Calibri"/>
                </a:rPr>
                <a:t>even at rest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(fatigue, arrhythmia, choking, АP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6" name="Rectangle 26"/>
            <p:cNvSpPr/>
            <p:nvPr/>
          </p:nvSpPr>
          <p:spPr>
            <a:xfrm>
              <a:off x="7247160" y="5835600"/>
              <a:ext cx="1685520" cy="8978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1 –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7" name="Line 27"/>
            <p:cNvSpPr/>
            <p:nvPr/>
          </p:nvSpPr>
          <p:spPr>
            <a:xfrm>
              <a:off x="2374200" y="1341360"/>
              <a:ext cx="0" cy="5392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8" name="Line 28"/>
            <p:cNvSpPr/>
            <p:nvPr/>
          </p:nvSpPr>
          <p:spPr>
            <a:xfrm>
              <a:off x="3842640" y="1341360"/>
              <a:ext cx="0" cy="5392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9" name="Line 29"/>
            <p:cNvSpPr/>
            <p:nvPr/>
          </p:nvSpPr>
          <p:spPr>
            <a:xfrm>
              <a:off x="7247160" y="1341360"/>
              <a:ext cx="0" cy="5392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Line 30"/>
            <p:cNvSpPr/>
            <p:nvPr/>
          </p:nvSpPr>
          <p:spPr>
            <a:xfrm>
              <a:off x="179280" y="2347560"/>
              <a:ext cx="8753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Line 31"/>
            <p:cNvSpPr/>
            <p:nvPr/>
          </p:nvSpPr>
          <p:spPr>
            <a:xfrm>
              <a:off x="179280" y="3106080"/>
              <a:ext cx="8753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Line 32"/>
            <p:cNvSpPr/>
            <p:nvPr/>
          </p:nvSpPr>
          <p:spPr>
            <a:xfrm>
              <a:off x="179280" y="4013640"/>
              <a:ext cx="8753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Line 33"/>
            <p:cNvSpPr/>
            <p:nvPr/>
          </p:nvSpPr>
          <p:spPr>
            <a:xfrm>
              <a:off x="179280" y="4921560"/>
              <a:ext cx="8753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4" name="Line 34"/>
            <p:cNvSpPr/>
            <p:nvPr/>
          </p:nvSpPr>
          <p:spPr>
            <a:xfrm>
              <a:off x="179280" y="5835600"/>
              <a:ext cx="8753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5" name="Line 35"/>
            <p:cNvSpPr/>
            <p:nvPr/>
          </p:nvSpPr>
          <p:spPr>
            <a:xfrm>
              <a:off x="179280" y="1341360"/>
              <a:ext cx="0" cy="5392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6" name="Line 36"/>
            <p:cNvSpPr/>
            <p:nvPr/>
          </p:nvSpPr>
          <p:spPr>
            <a:xfrm>
              <a:off x="8948880" y="1341360"/>
              <a:ext cx="0" cy="5392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Line 37"/>
            <p:cNvSpPr/>
            <p:nvPr/>
          </p:nvSpPr>
          <p:spPr>
            <a:xfrm>
              <a:off x="179280" y="1341360"/>
              <a:ext cx="8753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Line 38"/>
            <p:cNvSpPr/>
            <p:nvPr/>
          </p:nvSpPr>
          <p:spPr>
            <a:xfrm>
              <a:off x="179280" y="6750000"/>
              <a:ext cx="8753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9" name="Text Box 3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319DB-6F8B-420C-B5C8-04A071DBB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RS" sz="36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Climato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1" name="Text Box 2"/>
          <p:cNvSpPr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he most suitable is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moderate-altitude climate (маx 800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!!!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and coastal climate, although there is an individual reaction to clim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6666A-5558-4920-9A1B-9E9023816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Text Box 1"/>
          <p:cNvSpPr/>
          <p:nvPr/>
        </p:nvSpPr>
        <p:spPr>
          <a:xfrm>
            <a:off x="179280" y="404640"/>
            <a:ext cx="8839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Therapeutic classification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f cardiac patient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Text Box 2"/>
          <p:cNvSpPr/>
          <p:nvPr/>
        </p:nvSpPr>
        <p:spPr>
          <a:xfrm>
            <a:off x="468360" y="1484280"/>
            <a:ext cx="8370720" cy="49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lass "А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rdiac patients whose physical activity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es not have to be limit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lass "B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rdiac patients whose physical activity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es not have to be limit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ut wh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hould avoid strenous activit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ompetition at wor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lass "C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rdiac patients who ne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derate limit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physical activities, but who should be prohibited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great physical exer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lass "D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rdiac patients whose physical activities need to be greatly limited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lass "Е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rdiac patients who ne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mplete bed re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hich involves staying in bed or wheeling chai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A657C-7A1B-4B4A-AC81-A7421A2BF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Text Box 1"/>
          <p:cNvSpPr/>
          <p:nvPr/>
        </p:nvSpPr>
        <p:spPr>
          <a:xfrm>
            <a:off x="250920" y="620640"/>
            <a:ext cx="86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thods of assessment of cardiac pati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Text Box 2"/>
          <p:cNvSpPr/>
          <p:nvPr/>
        </p:nvSpPr>
        <p:spPr>
          <a:xfrm>
            <a:off x="468360" y="1484280"/>
            <a:ext cx="82184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2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 Physical examination of the he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а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measurement of the heart  ra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б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measurement of blood pressure 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в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percussion, palpation and auscult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lectrocardiographic exam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а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normal ECG appear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б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normal ECG devia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в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pathological ECG chang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F08FE-7725-4D01-9DF1-5A2F5DB38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thods of assessment of cardiac pati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7" name="Text Box 2"/>
          <p:cNvSpPr/>
          <p:nvPr/>
        </p:nvSpPr>
        <p:spPr>
          <a:xfrm>
            <a:off x="468360" y="1484280"/>
            <a:ext cx="837072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272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boratory  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а) standard indicators (sedimentation, complete blood count, glycaemia, cholesterol, urine, urea, triglycerides,  urine, urea, blood group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b) cholesterol fractions, transaminase, apoprotein A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) determination of C-reactive protein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) determination of fibrinopeptide A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е) determination of electrolyt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cintigrap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Echocardiograp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ngiocardiography (coronarography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VI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Electrical bioimpe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F1537-C3A2-48F2-8B89-20E73F229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0T14:35:16Z</dcterms:created>
  <dc:creator>WIN98SE</dc:creator>
  <dc:description/>
  <dc:language>en-US</dc:language>
  <cp:lastModifiedBy>Nada Miklja</cp:lastModifiedBy>
  <dcterms:modified xsi:type="dcterms:W3CDTF">2023-09-27T09:32:47Z</dcterms:modified>
  <cp:revision>424</cp:revision>
  <dc:subject/>
  <dc:title>Rehabilitacija AIM</dc:title>
</cp:coreProperties>
</file>